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050840" y="754200"/>
            <a:ext cx="457200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43537"/>
                </a:solidFill>
                <a:latin typeface="Arial Black"/>
              </a:rPr>
              <a:t>Click to move the slide</a:t>
            </a:r>
            <a:endParaRPr b="1" lang="en-US" sz="2800" spc="-1" strike="noStrike">
              <a:solidFill>
                <a:srgbClr val="34353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dt" idx="10"/>
          </p:nvPr>
        </p:nvSpPr>
        <p:spPr>
          <a:xfrm>
            <a:off x="3882960" y="0"/>
            <a:ext cx="2975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12"/>
          </p:nvPr>
        </p:nvSpPr>
        <p:spPr>
          <a:xfrm>
            <a:off x="3882960" y="8686800"/>
            <a:ext cx="2975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BE258-F1E4-44F4-9395-708271B0C8D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684360" y="1141560"/>
            <a:ext cx="5486400" cy="308592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8045E-2C76-48C5-81FB-A9AF7FFFAAF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379440" y="684360"/>
            <a:ext cx="609444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meihua.docer.c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5A833-A6BA-4F1D-9450-AEB54A1EAC0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085D-762F-487A-AC9E-B028A42CF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101160"/>
            <a:ext cx="1052676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4353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984240"/>
            <a:ext cx="1051560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8cc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3696840"/>
            <a:ext cx="1051560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8cc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65B4-13F7-4089-B1F4-27C994D9D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101160"/>
            <a:ext cx="1052676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4353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984240"/>
            <a:ext cx="51314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8cc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984240"/>
            <a:ext cx="51314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8cc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3696840"/>
            <a:ext cx="51314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8cc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3696840"/>
            <a:ext cx="51314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8cc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C9F6-4A02-495F-846D-F5AE83BAE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7720" y="101160"/>
            <a:ext cx="1052676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4353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984240"/>
            <a:ext cx="338580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8cc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984240"/>
            <a:ext cx="338580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8cc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984240"/>
            <a:ext cx="338580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8cc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3696840"/>
            <a:ext cx="338580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8cc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3696840"/>
            <a:ext cx="338580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8cc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3696840"/>
            <a:ext cx="338580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8cc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DC86-57D9-4B3E-8B47-497BBCA5F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1D5A2-BBBE-43B7-8FDA-6075B52FF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101160"/>
            <a:ext cx="1052676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43537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838080" y="984240"/>
            <a:ext cx="1051560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8cc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C5AF2-1F96-48EE-BA27-706584CE5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101160"/>
            <a:ext cx="1052676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43537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984240"/>
            <a:ext cx="1051560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8cc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1F5FA-7EFF-43F2-AD4A-63451B0FD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101160"/>
            <a:ext cx="1052676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43537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984240"/>
            <a:ext cx="51314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8cc1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6560" y="984240"/>
            <a:ext cx="51314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8cc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5709C-EE74-4B91-8689-1846A0B95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101160"/>
            <a:ext cx="1052676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4353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C340A-19E7-46E7-B9A9-1824EB642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837720" y="101160"/>
            <a:ext cx="1052676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8cc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33B33-129B-42E0-AFF6-BF1D6F45B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101160"/>
            <a:ext cx="1052676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4353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984240"/>
            <a:ext cx="51314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8cc1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984240"/>
            <a:ext cx="51314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8cc1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3696840"/>
            <a:ext cx="51314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8cc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9943B-1751-44A2-8DAE-3AA34BFEF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7720" y="101160"/>
            <a:ext cx="1052676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4353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984240"/>
            <a:ext cx="1051560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8cc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827A-5798-492A-B00A-729E07C77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101160"/>
            <a:ext cx="1052676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43537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984240"/>
            <a:ext cx="51314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8cc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560" y="984240"/>
            <a:ext cx="51314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8cc1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26560" y="3696840"/>
            <a:ext cx="51314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8cc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17138-B403-44A4-9627-40E0AB91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101160"/>
            <a:ext cx="1052676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4353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984240"/>
            <a:ext cx="51314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8cc1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984240"/>
            <a:ext cx="51314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8cc1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3696840"/>
            <a:ext cx="1051560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8cc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0735F-45EB-49B6-A7B6-A6FE701FE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101160"/>
            <a:ext cx="1052676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4353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984240"/>
            <a:ext cx="1051560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8cc1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838080" y="3696840"/>
            <a:ext cx="1051560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8cc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63266-8316-4DEB-B07A-690AC502F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101160"/>
            <a:ext cx="1052676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4353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984240"/>
            <a:ext cx="51314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8cc1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226560" y="984240"/>
            <a:ext cx="51314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8cc1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8080" y="3696840"/>
            <a:ext cx="51314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8cc1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226560" y="3696840"/>
            <a:ext cx="51314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8cc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436A9-A958-4EA6-8B9E-C08D80B8B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101160"/>
            <a:ext cx="1052676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4353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984240"/>
            <a:ext cx="338580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8cc1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393440" y="984240"/>
            <a:ext cx="338580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8cc1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7949160" y="984240"/>
            <a:ext cx="338580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8cc1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838080" y="3696840"/>
            <a:ext cx="338580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8cc1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393440" y="3696840"/>
            <a:ext cx="338580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8cc1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7949160" y="3696840"/>
            <a:ext cx="338580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8cc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4E2A3-43D8-4C87-8A57-30836E039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581D8-6FBD-477C-A76C-6759BCFD7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101160"/>
            <a:ext cx="1052676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4353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38080" y="984240"/>
            <a:ext cx="1051560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8cc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EA1B8-BCF0-4987-88D4-E022F424B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101160"/>
            <a:ext cx="1052676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4353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984240"/>
            <a:ext cx="1051560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8cc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95812-1E8C-456A-8995-4CE5A81B9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101160"/>
            <a:ext cx="1052676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4353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984240"/>
            <a:ext cx="51314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8cc1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984240"/>
            <a:ext cx="51314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8cc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ABFB9-DECB-4C97-930D-A1EDEE566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101160"/>
            <a:ext cx="1052676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4353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BFAAE-19EA-418F-850C-4628F5BD2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101160"/>
            <a:ext cx="1052676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4353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984240"/>
            <a:ext cx="1051560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8cc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1760-2728-40EC-817F-02F7B4700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837720" y="101160"/>
            <a:ext cx="1052676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8cc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8FBFA-7B57-45D0-AE34-5A1D9FC6D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101160"/>
            <a:ext cx="1052676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4353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984240"/>
            <a:ext cx="51314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8cc1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26560" y="984240"/>
            <a:ext cx="51314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8cc1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8080" y="3696840"/>
            <a:ext cx="51314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8cc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179DB-1583-49F5-B5BF-9E6E3C80D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101160"/>
            <a:ext cx="1052676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4353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984240"/>
            <a:ext cx="51314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8cc1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26560" y="984240"/>
            <a:ext cx="51314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8cc1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226560" y="3696840"/>
            <a:ext cx="51314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8cc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869D7-39E2-4CFD-B4FE-9E182E057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101160"/>
            <a:ext cx="1052676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4353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984240"/>
            <a:ext cx="51314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8cc1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226560" y="984240"/>
            <a:ext cx="51314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8cc1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38080" y="3696840"/>
            <a:ext cx="1051560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8cc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9FEEC-D9AC-45D5-BDCC-D146AE92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101160"/>
            <a:ext cx="1052676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4353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984240"/>
            <a:ext cx="1051560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8cc1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838080" y="3696840"/>
            <a:ext cx="1051560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8cc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C2479-EB6E-4511-8BDC-1F1613FB1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101160"/>
            <a:ext cx="1052676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4353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984240"/>
            <a:ext cx="51314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8cc1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226560" y="984240"/>
            <a:ext cx="51314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8cc1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8080" y="3696840"/>
            <a:ext cx="51314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8cc1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6226560" y="3696840"/>
            <a:ext cx="51314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8cc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09338-8414-4244-BE49-66A2C9832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101160"/>
            <a:ext cx="1052676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4353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984240"/>
            <a:ext cx="338580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8cc1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393440" y="984240"/>
            <a:ext cx="338580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8cc1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7949160" y="984240"/>
            <a:ext cx="338580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8cc1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838080" y="3696840"/>
            <a:ext cx="338580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8cc1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4393440" y="3696840"/>
            <a:ext cx="338580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8cc1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7949160" y="3696840"/>
            <a:ext cx="338580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8cc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A2300-BF8B-4C4C-B4C4-A920E4F2E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101160"/>
            <a:ext cx="1052676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4353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984240"/>
            <a:ext cx="51314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8cc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984240"/>
            <a:ext cx="51314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8cc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C3AD-82E9-401E-A72D-7462EB77B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101160"/>
            <a:ext cx="1052676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4353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54F4-1566-40A4-8BDD-621190424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7720" y="101160"/>
            <a:ext cx="1052676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8cc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FCE8-3B77-40A4-8DB2-01402A50E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101160"/>
            <a:ext cx="1052676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4353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984240"/>
            <a:ext cx="51314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8cc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984240"/>
            <a:ext cx="51314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8cc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3696840"/>
            <a:ext cx="51314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8cc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CC6E-CF80-4DA5-A2D5-4FB24B4D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01160"/>
            <a:ext cx="1052676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4353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984240"/>
            <a:ext cx="51314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8cc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984240"/>
            <a:ext cx="51314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8cc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3696840"/>
            <a:ext cx="51314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8cc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198F-A9A5-4816-90A1-90AA1C69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101160"/>
            <a:ext cx="1052676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4353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984240"/>
            <a:ext cx="51314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8cc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984240"/>
            <a:ext cx="51314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8cc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3696840"/>
            <a:ext cx="1051560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8cc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1773-FEF5-4446-9693-9B313E74A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95766-D9FD-4ACB-91C2-854BD677FED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0" descr=""/>
          <p:cNvPicPr/>
          <p:nvPr/>
        </p:nvPicPr>
        <p:blipFill>
          <a:blip r:embed="rId2"/>
          <a:srcRect l="0" t="-62" r="0" b="375"/>
          <a:stretch/>
        </p:blipFill>
        <p:spPr>
          <a:xfrm>
            <a:off x="0" y="-17640"/>
            <a:ext cx="12192120" cy="6880320"/>
          </a:xfrm>
          <a:prstGeom prst="rect">
            <a:avLst/>
          </a:prstGeom>
          <a:ln w="0">
            <a:noFill/>
          </a:ln>
        </p:spPr>
      </p:pic>
      <p:sp>
        <p:nvSpPr>
          <p:cNvPr id="42" name="任意多边形 26">
            <a:hlinkClick r:id="" action="ppaction://hlinkshowjump?jump=nextslide"/>
          </p:cNvPr>
          <p:cNvSpPr/>
          <p:nvPr/>
        </p:nvSpPr>
        <p:spPr>
          <a:xfrm flipH="1">
            <a:off x="11750040" y="2944800"/>
            <a:ext cx="439560" cy="852480"/>
          </a:xfrm>
          <a:custGeom>
            <a:avLst/>
            <a:gdLst/>
            <a:ahLst/>
            <a:rect l="l" t="t" r="r" b="b"/>
            <a:pathLst>
              <a:path w="537947" h="1076097">
                <a:moveTo>
                  <a:pt x="0" y="0"/>
                </a:moveTo>
                <a:lnTo>
                  <a:pt x="108325" y="10920"/>
                </a:lnTo>
                <a:cubicBezTo>
                  <a:pt x="353510" y="61092"/>
                  <a:pt x="537947" y="278031"/>
                  <a:pt x="537947" y="538048"/>
                </a:cubicBezTo>
                <a:cubicBezTo>
                  <a:pt x="537947" y="798065"/>
                  <a:pt x="353510" y="1015005"/>
                  <a:pt x="108325" y="1065177"/>
                </a:cubicBezTo>
                <a:lnTo>
                  <a:pt x="0" y="1076097"/>
                </a:lnTo>
                <a:lnTo>
                  <a:pt x="0" y="0"/>
                </a:lnTo>
                <a:close/>
              </a:path>
            </a:pathLst>
          </a:custGeom>
          <a:solidFill>
            <a:srgbClr val="b0b2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7720" y="101160"/>
            <a:ext cx="1052676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43537"/>
                </a:solidFill>
                <a:latin typeface="Arial Black"/>
              </a:rPr>
              <a:t>Click to edit the title text format</a:t>
            </a:r>
            <a:endParaRPr b="1" lang="en-US" sz="2800" spc="-1" strike="noStrike">
              <a:solidFill>
                <a:srgbClr val="34353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838080" y="984240"/>
            <a:ext cx="1051560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358cc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8cc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58cc1"/>
              </a:solidFill>
              <a:latin typeface="Arial"/>
            </a:endParaRPr>
          </a:p>
          <a:p>
            <a:pPr lvl="1" marL="357120" indent="-285840" algn="just">
              <a:lnSpc>
                <a:spcPct val="110000"/>
              </a:lnSpc>
              <a:spcBef>
                <a:spcPts val="1800"/>
              </a:spcBef>
              <a:buClr>
                <a:srgbClr val="8d9194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8cc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58cc1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8cc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58cc1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8cc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58cc1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8cc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58cc1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8cc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58cc1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8cc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58cc1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10717200" y="6356520"/>
            <a:ext cx="566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358cc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BB21C-81E9-4547-AA1C-B86397950843}" type="slidenum">
              <a:rPr b="0" lang="zh-CN" sz="1200" spc="-1" strike="noStrike">
                <a:solidFill>
                  <a:srgbClr val="358cc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直接连接符 8"/>
          <p:cNvSpPr/>
          <p:nvPr/>
        </p:nvSpPr>
        <p:spPr>
          <a:xfrm>
            <a:off x="838080" y="6713640"/>
            <a:ext cx="10561680" cy="0"/>
          </a:xfrm>
          <a:prstGeom prst="line">
            <a:avLst/>
          </a:prstGeom>
          <a:ln w="19080">
            <a:solidFill>
              <a:srgbClr val="8d91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任意多边形 13">
            <a:hlinkClick r:id="" action="ppaction://hlinkshowjump?jump=previousslide"/>
          </p:cNvPr>
          <p:cNvSpPr/>
          <p:nvPr/>
        </p:nvSpPr>
        <p:spPr>
          <a:xfrm>
            <a:off x="0" y="2944800"/>
            <a:ext cx="441360" cy="852480"/>
          </a:xfrm>
          <a:custGeom>
            <a:avLst/>
            <a:gdLst/>
            <a:ahLst/>
            <a:rect l="l" t="t" r="r" b="b"/>
            <a:pathLst>
              <a:path w="537947" h="1076097">
                <a:moveTo>
                  <a:pt x="0" y="0"/>
                </a:moveTo>
                <a:lnTo>
                  <a:pt x="108325" y="10920"/>
                </a:lnTo>
                <a:cubicBezTo>
                  <a:pt x="353510" y="61092"/>
                  <a:pt x="537947" y="278031"/>
                  <a:pt x="537947" y="538048"/>
                </a:cubicBezTo>
                <a:cubicBezTo>
                  <a:pt x="537947" y="798065"/>
                  <a:pt x="353510" y="1015005"/>
                  <a:pt x="108325" y="1065177"/>
                </a:cubicBezTo>
                <a:lnTo>
                  <a:pt x="0" y="1076097"/>
                </a:lnTo>
                <a:lnTo>
                  <a:pt x="0" y="0"/>
                </a:lnTo>
                <a:close/>
              </a:path>
            </a:pathLst>
          </a:custGeom>
          <a:solidFill>
            <a:srgbClr val="b0b2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燕尾形 18">
            <a:hlinkClick r:id="" action="ppaction://hlinkshowjump?jump=nextslide"/>
          </p:cNvPr>
          <p:cNvSpPr/>
          <p:nvPr/>
        </p:nvSpPr>
        <p:spPr>
          <a:xfrm>
            <a:off x="11320560" y="6499080"/>
            <a:ext cx="102960" cy="100080"/>
          </a:xfrm>
          <a:custGeom>
            <a:avLst/>
            <a:gdLst>
              <a:gd name="textAreaLeft" fmla="*/ 0 w 102960"/>
              <a:gd name="textAreaRight" fmla="*/ 103320 w 102960"/>
              <a:gd name="textAreaTop" fmla="*/ 0 h 100080"/>
              <a:gd name="textAreaBottom" fmla="*/ 100440 h 100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823" y="0"/>
                </a:lnTo>
                <a:lnTo>
                  <a:pt x="21600" y="10800"/>
                </a:lnTo>
                <a:lnTo>
                  <a:pt x="8823" y="21600"/>
                </a:lnTo>
                <a:lnTo>
                  <a:pt x="0" y="21600"/>
                </a:lnTo>
                <a:lnTo>
                  <a:pt x="12777" y="10800"/>
                </a:lnTo>
                <a:close/>
              </a:path>
            </a:pathLst>
          </a:custGeom>
          <a:solidFill>
            <a:srgbClr val="358c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燕尾形 19">
            <a:hlinkClick r:id="" action="ppaction://hlinkshowjump?jump=previousslide"/>
          </p:cNvPr>
          <p:cNvSpPr/>
          <p:nvPr/>
        </p:nvSpPr>
        <p:spPr>
          <a:xfrm flipH="1">
            <a:off x="10581480" y="6499080"/>
            <a:ext cx="104760" cy="100080"/>
          </a:xfrm>
          <a:custGeom>
            <a:avLst/>
            <a:gdLst>
              <a:gd name="textAreaLeft" fmla="*/ -360 w 104760"/>
              <a:gd name="textAreaRight" fmla="*/ 104760 w 104760"/>
              <a:gd name="textAreaTop" fmla="*/ 0 h 100080"/>
              <a:gd name="textAreaBottom" fmla="*/ 100440 h 100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823" y="0"/>
                </a:lnTo>
                <a:lnTo>
                  <a:pt x="21600" y="10800"/>
                </a:lnTo>
                <a:lnTo>
                  <a:pt x="8823" y="21600"/>
                </a:lnTo>
                <a:lnTo>
                  <a:pt x="0" y="21600"/>
                </a:lnTo>
                <a:lnTo>
                  <a:pt x="12777" y="10800"/>
                </a:lnTo>
                <a:close/>
              </a:path>
            </a:pathLst>
          </a:custGeom>
          <a:solidFill>
            <a:srgbClr val="358c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燕尾形 24"/>
          <p:cNvSpPr/>
          <p:nvPr/>
        </p:nvSpPr>
        <p:spPr>
          <a:xfrm>
            <a:off x="11820600" y="3290760"/>
            <a:ext cx="236520" cy="204840"/>
          </a:xfrm>
          <a:custGeom>
            <a:avLst/>
            <a:gdLst>
              <a:gd name="textAreaLeft" fmla="*/ 0 w 236520"/>
              <a:gd name="textAreaRight" fmla="*/ 236880 w 23652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024" y="0"/>
                </a:lnTo>
                <a:lnTo>
                  <a:pt x="21600" y="10800"/>
                </a:lnTo>
                <a:lnTo>
                  <a:pt x="10024" y="21600"/>
                </a:lnTo>
                <a:lnTo>
                  <a:pt x="0" y="21600"/>
                </a:lnTo>
                <a:lnTo>
                  <a:pt x="11576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燕尾形 25"/>
          <p:cNvSpPr/>
          <p:nvPr/>
        </p:nvSpPr>
        <p:spPr>
          <a:xfrm flipH="1">
            <a:off x="135720" y="3290760"/>
            <a:ext cx="236520" cy="204840"/>
          </a:xfrm>
          <a:custGeom>
            <a:avLst/>
            <a:gdLst>
              <a:gd name="textAreaLeft" fmla="*/ -360 w 236520"/>
              <a:gd name="textAreaRight" fmla="*/ 236520 w 23652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024" y="0"/>
                </a:lnTo>
                <a:lnTo>
                  <a:pt x="21600" y="10800"/>
                </a:lnTo>
                <a:lnTo>
                  <a:pt x="10024" y="21600"/>
                </a:lnTo>
                <a:lnTo>
                  <a:pt x="0" y="21600"/>
                </a:lnTo>
                <a:lnTo>
                  <a:pt x="11576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14" descr=""/>
          <p:cNvPicPr/>
          <p:nvPr/>
        </p:nvPicPr>
        <p:blipFill>
          <a:blip r:embed="rId2"/>
          <a:srcRect l="0" t="-62" r="0" b="375"/>
          <a:stretch/>
        </p:blipFill>
        <p:spPr>
          <a:xfrm>
            <a:off x="0" y="-17640"/>
            <a:ext cx="12192120" cy="6880320"/>
          </a:xfrm>
          <a:prstGeom prst="rect">
            <a:avLst/>
          </a:prstGeom>
          <a:ln w="0">
            <a:noFill/>
          </a:ln>
          <a:effectLst>
            <a:outerShdw dist="12600" dir="5400000" blurRad="0" rotWithShape="0">
              <a:srgbClr val="ffffff">
                <a:alpha val="32000"/>
              </a:srgbClr>
            </a:outerShdw>
          </a:effectLst>
        </p:spPr>
      </p:pic>
      <p:sp>
        <p:nvSpPr>
          <p:cNvPr id="91" name="椭圆 15"/>
          <p:cNvSpPr/>
          <p:nvPr/>
        </p:nvSpPr>
        <p:spPr>
          <a:xfrm>
            <a:off x="5195880" y="487440"/>
            <a:ext cx="1800360" cy="18000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28440">
            <a:solidFill>
              <a:srgbClr val="888c8f"/>
            </a:solidFill>
            <a:miter/>
          </a:ln>
          <a:effectLst>
            <a:outerShdw dist="12600" dir="5400000" blurRad="0" rotWithShape="0">
              <a:srgbClr val="ffffff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组合 16"/>
          <p:cNvGrpSpPr/>
          <p:nvPr/>
        </p:nvGrpSpPr>
        <p:grpSpPr>
          <a:xfrm>
            <a:off x="5826240" y="5016600"/>
            <a:ext cx="539640" cy="539640"/>
            <a:chOff x="5826240" y="5016600"/>
            <a:chExt cx="539640" cy="539640"/>
          </a:xfrm>
        </p:grpSpPr>
        <p:sp>
          <p:nvSpPr>
            <p:cNvPr id="93" name="椭圆 17">
              <a:hlinkClick r:id="" action="ppaction://hlinkshowjump?jump=nextslide"/>
            </p:cNvPr>
            <p:cNvSpPr/>
            <p:nvPr/>
          </p:nvSpPr>
          <p:spPr>
            <a:xfrm>
              <a:off x="5826240" y="5016600"/>
              <a:ext cx="539640" cy="539640"/>
            </a:xfrm>
            <a:prstGeom prst="ellipse">
              <a:avLst/>
            </a:prstGeom>
            <a:solidFill>
              <a:srgbClr val="b0b2b5"/>
            </a:solidFill>
            <a:ln w="0">
              <a:noFill/>
            </a:ln>
            <a:effectLst>
              <a:outerShdw dist="12600" dir="5400000" blurRad="0" rotWithShape="0">
                <a:srgbClr val="ffffff">
                  <a:alpha val="32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燕尾形 20">
              <a:hlinkClick r:id="" action="ppaction://hlinkshowjump?jump=nextslide"/>
            </p:cNvPr>
            <p:cNvSpPr/>
            <p:nvPr/>
          </p:nvSpPr>
          <p:spPr>
            <a:xfrm>
              <a:off x="5997600" y="5184720"/>
              <a:ext cx="196920" cy="22680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8262" y="0"/>
                  </a:lnTo>
                  <a:lnTo>
                    <a:pt x="21600" y="10800"/>
                  </a:lnTo>
                  <a:lnTo>
                    <a:pt x="8262" y="21600"/>
                  </a:lnTo>
                  <a:lnTo>
                    <a:pt x="0" y="21600"/>
                  </a:lnTo>
                  <a:lnTo>
                    <a:pt x="13338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101160"/>
            <a:ext cx="1052676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43537"/>
                </a:solidFill>
                <a:latin typeface="Arial Black"/>
              </a:rPr>
              <a:t>Click to edit the title text format</a:t>
            </a:r>
            <a:endParaRPr b="1" lang="en-US" sz="2800" spc="-1" strike="noStrike">
              <a:solidFill>
                <a:srgbClr val="343537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38080" y="984240"/>
            <a:ext cx="1051560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358cc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8cc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58cc1"/>
              </a:solidFill>
              <a:latin typeface="Arial"/>
            </a:endParaRPr>
          </a:p>
          <a:p>
            <a:pPr lvl="1" marL="357120" indent="-285840" algn="just">
              <a:lnSpc>
                <a:spcPct val="110000"/>
              </a:lnSpc>
              <a:spcBef>
                <a:spcPts val="1800"/>
              </a:spcBef>
              <a:buClr>
                <a:srgbClr val="8d9194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8cc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58cc1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8cc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58cc1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8cc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58cc1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8cc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58cc1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8cc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58cc1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8cc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58cc1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358cc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C1CA5-41B3-4955-BF92-F423D1C87579}" type="slidenum">
              <a:rPr b="0" lang="zh-CN" sz="1200" spc="-1" strike="noStrike">
                <a:solidFill>
                  <a:srgbClr val="358cc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5.jpe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09680" y="2994120"/>
            <a:ext cx="5443560" cy="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f384e"/>
                </a:solidFill>
                <a:latin typeface="Arial Black"/>
              </a:rPr>
              <a:t>智慧超市</a:t>
            </a:r>
            <a:r>
              <a:rPr b="1" lang="en-US" sz="4800" spc="-1" strike="noStrike">
                <a:solidFill>
                  <a:srgbClr val="2f384e"/>
                </a:solidFill>
                <a:latin typeface="Arial Black"/>
              </a:rPr>
              <a:t>—</a:t>
            </a:r>
            <a:r>
              <a:rPr b="1" lang="zh-CN" sz="4800" spc="-1" strike="noStrike">
                <a:solidFill>
                  <a:srgbClr val="2f384e"/>
                </a:solidFill>
                <a:latin typeface="Arial Black"/>
              </a:rPr>
              <a:t>扫扫付</a:t>
            </a:r>
            <a:endParaRPr b="1" lang="en-US" sz="4800" spc="-1" strike="noStrike">
              <a:solidFill>
                <a:srgbClr val="34353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5664240" y="4146480"/>
            <a:ext cx="5759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f384e"/>
                </a:solidFill>
                <a:latin typeface="Arial"/>
              </a:rPr>
              <a:t>——</a:t>
            </a:r>
            <a:r>
              <a:rPr b="0" lang="zh-CN" sz="2400" spc="-1" strike="noStrike">
                <a:solidFill>
                  <a:srgbClr val="2f384e"/>
                </a:solidFill>
                <a:latin typeface="Arial"/>
              </a:rPr>
              <a:t>基于物联网技术的自助扫码付款系统</a:t>
            </a:r>
            <a:endParaRPr b="0" lang="en-US" sz="2400" spc="-1" strike="noStrike">
              <a:solidFill>
                <a:srgbClr val="358cc1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8616960" y="5229360"/>
            <a:ext cx="316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f384e"/>
                </a:solidFill>
                <a:latin typeface="宋体"/>
              </a:rPr>
              <a:t>团队成员：邓先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384e"/>
                </a:solidFill>
                <a:latin typeface="宋体"/>
              </a:rPr>
              <a:t>          </a:t>
            </a:r>
            <a:r>
              <a:rPr b="1" lang="zh-CN" sz="1600" spc="-1" strike="noStrike">
                <a:solidFill>
                  <a:srgbClr val="2f384e"/>
                </a:solidFill>
                <a:latin typeface="宋体"/>
              </a:rPr>
              <a:t>郑  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384e"/>
                </a:solidFill>
                <a:latin typeface="宋体"/>
              </a:rPr>
              <a:t>          </a:t>
            </a:r>
            <a:r>
              <a:rPr b="1" lang="zh-CN" sz="1600" spc="-1" strike="noStrike">
                <a:solidFill>
                  <a:srgbClr val="2f384e"/>
                </a:solidFill>
                <a:latin typeface="宋体"/>
              </a:rPr>
              <a:t>朱  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任意多边形 28"/>
          <p:cNvSpPr/>
          <p:nvPr/>
        </p:nvSpPr>
        <p:spPr>
          <a:xfrm>
            <a:off x="1415880" y="3357720"/>
            <a:ext cx="9150480" cy="99360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993600"/>
              <a:gd name="textAreaBottom" fmla="*/ 993960 h 993600"/>
            </a:gdLst>
            <a:ahLst/>
            <a:rect l="textAreaLeft" t="textAreaTop" r="textAreaRight" b="textAreaBottom"/>
            <a:pathLst>
              <a:path w="9151146" h="993775">
                <a:moveTo>
                  <a:pt x="7303830" y="667863"/>
                </a:moveTo>
                <a:cubicBezTo>
                  <a:pt x="7348603" y="667863"/>
                  <a:pt x="7393376" y="667863"/>
                  <a:pt x="7438150" y="667863"/>
                </a:cubicBezTo>
                <a:cubicBezTo>
                  <a:pt x="7433958" y="703184"/>
                  <a:pt x="7425956" y="735642"/>
                  <a:pt x="7414144" y="764663"/>
                </a:cubicBezTo>
                <a:lnTo>
                  <a:pt x="7813204" y="869949"/>
                </a:lnTo>
                <a:lnTo>
                  <a:pt x="9151146" y="869949"/>
                </a:lnTo>
                <a:lnTo>
                  <a:pt x="9151146" y="991394"/>
                </a:lnTo>
                <a:lnTo>
                  <a:pt x="7764196" y="991394"/>
                </a:lnTo>
                <a:lnTo>
                  <a:pt x="7763946" y="991866"/>
                </a:lnTo>
                <a:cubicBezTo>
                  <a:pt x="7608478" y="938406"/>
                  <a:pt x="7471110" y="894684"/>
                  <a:pt x="7351270" y="860699"/>
                </a:cubicBezTo>
                <a:cubicBezTo>
                  <a:pt x="7284968" y="930769"/>
                  <a:pt x="7150458" y="974873"/>
                  <a:pt x="6947740" y="992821"/>
                </a:cubicBezTo>
                <a:cubicBezTo>
                  <a:pt x="6931355" y="954444"/>
                  <a:pt x="6910778" y="912631"/>
                  <a:pt x="6885819" y="867572"/>
                </a:cubicBezTo>
                <a:cubicBezTo>
                  <a:pt x="7036905" y="858599"/>
                  <a:pt x="7143218" y="839697"/>
                  <a:pt x="7204757" y="810867"/>
                </a:cubicBezTo>
                <a:cubicBezTo>
                  <a:pt x="7266106" y="782037"/>
                  <a:pt x="7299257" y="734305"/>
                  <a:pt x="7303830" y="667863"/>
                </a:cubicBezTo>
                <a:close/>
                <a:moveTo>
                  <a:pt x="6987940" y="541660"/>
                </a:moveTo>
                <a:cubicBezTo>
                  <a:pt x="7242862" y="541660"/>
                  <a:pt x="7497974" y="541660"/>
                  <a:pt x="7753086" y="541660"/>
                </a:cubicBezTo>
                <a:cubicBezTo>
                  <a:pt x="7753086" y="631778"/>
                  <a:pt x="7753086" y="721895"/>
                  <a:pt x="7753086" y="812013"/>
                </a:cubicBezTo>
                <a:cubicBezTo>
                  <a:pt x="7710028" y="812013"/>
                  <a:pt x="7666779" y="812013"/>
                  <a:pt x="7623530" y="812013"/>
                </a:cubicBezTo>
                <a:cubicBezTo>
                  <a:pt x="7623530" y="757599"/>
                  <a:pt x="7623530" y="703184"/>
                  <a:pt x="7623530" y="648961"/>
                </a:cubicBezTo>
                <a:cubicBezTo>
                  <a:pt x="7454916" y="648961"/>
                  <a:pt x="7286111" y="648961"/>
                  <a:pt x="7117306" y="648961"/>
                </a:cubicBezTo>
                <a:cubicBezTo>
                  <a:pt x="7117306" y="703184"/>
                  <a:pt x="7117306" y="757599"/>
                  <a:pt x="7117306" y="812013"/>
                </a:cubicBezTo>
                <a:cubicBezTo>
                  <a:pt x="7074248" y="812013"/>
                  <a:pt x="7030999" y="812013"/>
                  <a:pt x="6987940" y="812013"/>
                </a:cubicBezTo>
                <a:cubicBezTo>
                  <a:pt x="6987940" y="721895"/>
                  <a:pt x="6987940" y="631778"/>
                  <a:pt x="6987940" y="541660"/>
                </a:cubicBezTo>
                <a:close/>
                <a:moveTo>
                  <a:pt x="5258360" y="501756"/>
                </a:moveTo>
                <a:cubicBezTo>
                  <a:pt x="5258360" y="521613"/>
                  <a:pt x="5258360" y="541660"/>
                  <a:pt x="5258360" y="561517"/>
                </a:cubicBezTo>
                <a:cubicBezTo>
                  <a:pt x="5294941" y="561517"/>
                  <a:pt x="5331521" y="561517"/>
                  <a:pt x="5368102" y="561517"/>
                </a:cubicBezTo>
                <a:cubicBezTo>
                  <a:pt x="5368102" y="541660"/>
                  <a:pt x="5368102" y="521613"/>
                  <a:pt x="5368102" y="501756"/>
                </a:cubicBezTo>
                <a:cubicBezTo>
                  <a:pt x="5331521" y="501756"/>
                  <a:pt x="5294941" y="501756"/>
                  <a:pt x="5258360" y="501756"/>
                </a:cubicBezTo>
                <a:close/>
                <a:moveTo>
                  <a:pt x="4253725" y="501756"/>
                </a:moveTo>
                <a:cubicBezTo>
                  <a:pt x="4253725" y="521613"/>
                  <a:pt x="4253725" y="541660"/>
                  <a:pt x="4253725" y="561517"/>
                </a:cubicBezTo>
                <a:cubicBezTo>
                  <a:pt x="4290305" y="561517"/>
                  <a:pt x="4326886" y="561517"/>
                  <a:pt x="4363467" y="561517"/>
                </a:cubicBezTo>
                <a:cubicBezTo>
                  <a:pt x="4363467" y="541660"/>
                  <a:pt x="4363467" y="521613"/>
                  <a:pt x="4363467" y="501756"/>
                </a:cubicBezTo>
                <a:cubicBezTo>
                  <a:pt x="4326886" y="501756"/>
                  <a:pt x="4290305" y="501756"/>
                  <a:pt x="4253725" y="501756"/>
                </a:cubicBezTo>
                <a:close/>
                <a:moveTo>
                  <a:pt x="7188944" y="359707"/>
                </a:moveTo>
                <a:cubicBezTo>
                  <a:pt x="7188944" y="377845"/>
                  <a:pt x="7188944" y="396174"/>
                  <a:pt x="7188944" y="414312"/>
                </a:cubicBezTo>
                <a:cubicBezTo>
                  <a:pt x="7311260" y="414312"/>
                  <a:pt x="7433577" y="414312"/>
                  <a:pt x="7555894" y="414312"/>
                </a:cubicBezTo>
                <a:cubicBezTo>
                  <a:pt x="7555894" y="396174"/>
                  <a:pt x="7555894" y="377845"/>
                  <a:pt x="7555894" y="359707"/>
                </a:cubicBezTo>
                <a:cubicBezTo>
                  <a:pt x="7433577" y="359707"/>
                  <a:pt x="7311260" y="359707"/>
                  <a:pt x="7188944" y="359707"/>
                </a:cubicBezTo>
                <a:close/>
                <a:moveTo>
                  <a:pt x="5258360" y="356652"/>
                </a:moveTo>
                <a:cubicBezTo>
                  <a:pt x="5258360" y="376508"/>
                  <a:pt x="5258360" y="396556"/>
                  <a:pt x="5258360" y="416412"/>
                </a:cubicBezTo>
                <a:cubicBezTo>
                  <a:pt x="5294941" y="416412"/>
                  <a:pt x="5331521" y="416412"/>
                  <a:pt x="5368102" y="416412"/>
                </a:cubicBezTo>
                <a:cubicBezTo>
                  <a:pt x="5368102" y="396556"/>
                  <a:pt x="5368102" y="376508"/>
                  <a:pt x="5368102" y="356652"/>
                </a:cubicBezTo>
                <a:cubicBezTo>
                  <a:pt x="5331521" y="356652"/>
                  <a:pt x="5294941" y="356652"/>
                  <a:pt x="5258360" y="356652"/>
                </a:cubicBezTo>
                <a:close/>
                <a:moveTo>
                  <a:pt x="4253725" y="356652"/>
                </a:moveTo>
                <a:cubicBezTo>
                  <a:pt x="4253725" y="376508"/>
                  <a:pt x="4253725" y="396556"/>
                  <a:pt x="4253725" y="416412"/>
                </a:cubicBezTo>
                <a:cubicBezTo>
                  <a:pt x="4290305" y="416412"/>
                  <a:pt x="4326886" y="416412"/>
                  <a:pt x="4363467" y="416412"/>
                </a:cubicBezTo>
                <a:cubicBezTo>
                  <a:pt x="4363467" y="396556"/>
                  <a:pt x="4363467" y="376508"/>
                  <a:pt x="4363467" y="356652"/>
                </a:cubicBezTo>
                <a:cubicBezTo>
                  <a:pt x="4326886" y="356652"/>
                  <a:pt x="4290305" y="356652"/>
                  <a:pt x="4253725" y="356652"/>
                </a:cubicBezTo>
                <a:close/>
                <a:moveTo>
                  <a:pt x="7069294" y="278180"/>
                </a:moveTo>
                <a:cubicBezTo>
                  <a:pt x="7271441" y="278180"/>
                  <a:pt x="7473587" y="278180"/>
                  <a:pt x="7675543" y="278180"/>
                </a:cubicBezTo>
                <a:cubicBezTo>
                  <a:pt x="7675543" y="350733"/>
                  <a:pt x="7675543" y="423285"/>
                  <a:pt x="7675543" y="495838"/>
                </a:cubicBezTo>
                <a:cubicBezTo>
                  <a:pt x="7473587" y="495838"/>
                  <a:pt x="7271441" y="495838"/>
                  <a:pt x="7069294" y="495838"/>
                </a:cubicBezTo>
                <a:cubicBezTo>
                  <a:pt x="7069294" y="423285"/>
                  <a:pt x="7069294" y="350733"/>
                  <a:pt x="7069294" y="278180"/>
                </a:cubicBezTo>
                <a:close/>
                <a:moveTo>
                  <a:pt x="6469905" y="237513"/>
                </a:moveTo>
                <a:cubicBezTo>
                  <a:pt x="6514106" y="237513"/>
                  <a:pt x="6558117" y="237513"/>
                  <a:pt x="6602319" y="237513"/>
                </a:cubicBezTo>
                <a:cubicBezTo>
                  <a:pt x="6603653" y="378227"/>
                  <a:pt x="6594698" y="495265"/>
                  <a:pt x="6575265" y="588246"/>
                </a:cubicBezTo>
                <a:cubicBezTo>
                  <a:pt x="6597746" y="588246"/>
                  <a:pt x="6620228" y="588246"/>
                  <a:pt x="6642520" y="588246"/>
                </a:cubicBezTo>
                <a:cubicBezTo>
                  <a:pt x="6642520" y="661562"/>
                  <a:pt x="6642520" y="734687"/>
                  <a:pt x="6642520" y="808003"/>
                </a:cubicBezTo>
                <a:cubicBezTo>
                  <a:pt x="6642520" y="837788"/>
                  <a:pt x="6656237" y="852680"/>
                  <a:pt x="6683673" y="852680"/>
                </a:cubicBezTo>
                <a:cubicBezTo>
                  <a:pt x="6701773" y="852680"/>
                  <a:pt x="6713966" y="845807"/>
                  <a:pt x="6720635" y="832251"/>
                </a:cubicBezTo>
                <a:cubicBezTo>
                  <a:pt x="6727113" y="818695"/>
                  <a:pt x="6733209" y="772873"/>
                  <a:pt x="6738734" y="694593"/>
                </a:cubicBezTo>
                <a:cubicBezTo>
                  <a:pt x="6781793" y="715213"/>
                  <a:pt x="6823137" y="732778"/>
                  <a:pt x="6862385" y="747288"/>
                </a:cubicBezTo>
                <a:cubicBezTo>
                  <a:pt x="6846571" y="860317"/>
                  <a:pt x="6825614" y="925423"/>
                  <a:pt x="6799512" y="942798"/>
                </a:cubicBezTo>
                <a:cubicBezTo>
                  <a:pt x="6773410" y="960172"/>
                  <a:pt x="6745212" y="968955"/>
                  <a:pt x="6715109" y="968955"/>
                </a:cubicBezTo>
                <a:cubicBezTo>
                  <a:pt x="6690913" y="968955"/>
                  <a:pt x="6666716" y="968955"/>
                  <a:pt x="6642520" y="968955"/>
                </a:cubicBezTo>
                <a:cubicBezTo>
                  <a:pt x="6562118" y="968955"/>
                  <a:pt x="6521918" y="928860"/>
                  <a:pt x="6521918" y="848671"/>
                </a:cubicBezTo>
                <a:cubicBezTo>
                  <a:pt x="6521918" y="814686"/>
                  <a:pt x="6521918" y="780701"/>
                  <a:pt x="6521918" y="746907"/>
                </a:cubicBezTo>
                <a:cubicBezTo>
                  <a:pt x="6472191" y="846952"/>
                  <a:pt x="6386836" y="929242"/>
                  <a:pt x="6265853" y="993775"/>
                </a:cubicBezTo>
                <a:cubicBezTo>
                  <a:pt x="6240894" y="957308"/>
                  <a:pt x="6210220" y="917213"/>
                  <a:pt x="6173639" y="873491"/>
                </a:cubicBezTo>
                <a:cubicBezTo>
                  <a:pt x="6300528" y="816213"/>
                  <a:pt x="6382644" y="744043"/>
                  <a:pt x="6419797" y="656789"/>
                </a:cubicBezTo>
                <a:cubicBezTo>
                  <a:pt x="6457139" y="569726"/>
                  <a:pt x="6473715" y="429968"/>
                  <a:pt x="6469905" y="237513"/>
                </a:cubicBezTo>
                <a:close/>
                <a:moveTo>
                  <a:pt x="5258360" y="211547"/>
                </a:moveTo>
                <a:cubicBezTo>
                  <a:pt x="5258360" y="231403"/>
                  <a:pt x="5258360" y="251451"/>
                  <a:pt x="5258360" y="271307"/>
                </a:cubicBezTo>
                <a:cubicBezTo>
                  <a:pt x="5294941" y="271307"/>
                  <a:pt x="5331521" y="271307"/>
                  <a:pt x="5368102" y="271307"/>
                </a:cubicBezTo>
                <a:cubicBezTo>
                  <a:pt x="5368102" y="251451"/>
                  <a:pt x="5368102" y="231403"/>
                  <a:pt x="5368102" y="211547"/>
                </a:cubicBezTo>
                <a:cubicBezTo>
                  <a:pt x="5331521" y="211547"/>
                  <a:pt x="5294941" y="211547"/>
                  <a:pt x="5258360" y="211547"/>
                </a:cubicBezTo>
                <a:close/>
                <a:moveTo>
                  <a:pt x="4253725" y="211547"/>
                </a:moveTo>
                <a:cubicBezTo>
                  <a:pt x="4253725" y="231403"/>
                  <a:pt x="4253725" y="251451"/>
                  <a:pt x="4253725" y="271307"/>
                </a:cubicBezTo>
                <a:cubicBezTo>
                  <a:pt x="4290305" y="271307"/>
                  <a:pt x="4326886" y="271307"/>
                  <a:pt x="4363467" y="271307"/>
                </a:cubicBezTo>
                <a:cubicBezTo>
                  <a:pt x="4363467" y="251451"/>
                  <a:pt x="4363467" y="231403"/>
                  <a:pt x="4363467" y="211547"/>
                </a:cubicBezTo>
                <a:cubicBezTo>
                  <a:pt x="4326886" y="211547"/>
                  <a:pt x="4290305" y="211547"/>
                  <a:pt x="4253725" y="211547"/>
                </a:cubicBezTo>
                <a:close/>
                <a:moveTo>
                  <a:pt x="5890139" y="91454"/>
                </a:moveTo>
                <a:cubicBezTo>
                  <a:pt x="6006549" y="91454"/>
                  <a:pt x="6122960" y="91454"/>
                  <a:pt x="6239370" y="91454"/>
                </a:cubicBezTo>
                <a:cubicBezTo>
                  <a:pt x="6233464" y="262715"/>
                  <a:pt x="6203742" y="419085"/>
                  <a:pt x="6150014" y="560562"/>
                </a:cubicBezTo>
                <a:cubicBezTo>
                  <a:pt x="6186976" y="631014"/>
                  <a:pt x="6223938" y="701657"/>
                  <a:pt x="6260899" y="772109"/>
                </a:cubicBezTo>
                <a:cubicBezTo>
                  <a:pt x="6224700" y="796739"/>
                  <a:pt x="6188309" y="821177"/>
                  <a:pt x="6152110" y="845616"/>
                </a:cubicBezTo>
                <a:cubicBezTo>
                  <a:pt x="6131152" y="799984"/>
                  <a:pt x="6108670" y="752634"/>
                  <a:pt x="6084855" y="703566"/>
                </a:cubicBezTo>
                <a:cubicBezTo>
                  <a:pt x="6044654" y="778791"/>
                  <a:pt x="5996261" y="849053"/>
                  <a:pt x="5940056" y="914350"/>
                </a:cubicBezTo>
                <a:cubicBezTo>
                  <a:pt x="5919099" y="871964"/>
                  <a:pt x="5894902" y="828814"/>
                  <a:pt x="5867466" y="785092"/>
                </a:cubicBezTo>
                <a:cubicBezTo>
                  <a:pt x="5928625" y="715595"/>
                  <a:pt x="5978352" y="642470"/>
                  <a:pt x="6016647" y="565908"/>
                </a:cubicBezTo>
                <a:cubicBezTo>
                  <a:pt x="5976446" y="486482"/>
                  <a:pt x="5933007" y="403429"/>
                  <a:pt x="5886138" y="316939"/>
                </a:cubicBezTo>
                <a:cubicBezTo>
                  <a:pt x="5920432" y="300328"/>
                  <a:pt x="5954917" y="283908"/>
                  <a:pt x="5989211" y="267298"/>
                </a:cubicBezTo>
                <a:cubicBezTo>
                  <a:pt x="6017409" y="318466"/>
                  <a:pt x="6045797" y="369635"/>
                  <a:pt x="6073995" y="420803"/>
                </a:cubicBezTo>
                <a:cubicBezTo>
                  <a:pt x="6094000" y="355315"/>
                  <a:pt x="6106193" y="287154"/>
                  <a:pt x="6110766" y="216511"/>
                </a:cubicBezTo>
                <a:cubicBezTo>
                  <a:pt x="6037224" y="216511"/>
                  <a:pt x="5963681" y="216511"/>
                  <a:pt x="5890139" y="216511"/>
                </a:cubicBezTo>
                <a:cubicBezTo>
                  <a:pt x="5890139" y="174889"/>
                  <a:pt x="5890139" y="133076"/>
                  <a:pt x="5890139" y="91454"/>
                </a:cubicBezTo>
                <a:close/>
                <a:moveTo>
                  <a:pt x="6270807" y="46586"/>
                </a:moveTo>
                <a:cubicBezTo>
                  <a:pt x="6447042" y="46586"/>
                  <a:pt x="6623277" y="46586"/>
                  <a:pt x="6799512" y="46586"/>
                </a:cubicBezTo>
                <a:cubicBezTo>
                  <a:pt x="6799512" y="248778"/>
                  <a:pt x="6799512" y="450779"/>
                  <a:pt x="6799512" y="652971"/>
                </a:cubicBezTo>
                <a:cubicBezTo>
                  <a:pt x="6755691" y="652971"/>
                  <a:pt x="6711871" y="652971"/>
                  <a:pt x="6668050" y="652971"/>
                </a:cubicBezTo>
                <a:cubicBezTo>
                  <a:pt x="6668050" y="493928"/>
                  <a:pt x="6668050" y="334886"/>
                  <a:pt x="6668050" y="175844"/>
                </a:cubicBezTo>
                <a:cubicBezTo>
                  <a:pt x="6579456" y="175844"/>
                  <a:pt x="6490862" y="175844"/>
                  <a:pt x="6402268" y="175844"/>
                </a:cubicBezTo>
                <a:cubicBezTo>
                  <a:pt x="6402268" y="336795"/>
                  <a:pt x="6402268" y="497938"/>
                  <a:pt x="6402268" y="658889"/>
                </a:cubicBezTo>
                <a:cubicBezTo>
                  <a:pt x="6358448" y="658889"/>
                  <a:pt x="6314627" y="658889"/>
                  <a:pt x="6270807" y="658889"/>
                </a:cubicBezTo>
                <a:cubicBezTo>
                  <a:pt x="6270807" y="454788"/>
                  <a:pt x="6270807" y="250687"/>
                  <a:pt x="6270807" y="46586"/>
                </a:cubicBezTo>
                <a:close/>
                <a:moveTo>
                  <a:pt x="4999247" y="17756"/>
                </a:moveTo>
                <a:cubicBezTo>
                  <a:pt x="5043067" y="76753"/>
                  <a:pt x="5081934" y="133840"/>
                  <a:pt x="5116038" y="188827"/>
                </a:cubicBezTo>
                <a:cubicBezTo>
                  <a:pt x="5080029" y="210592"/>
                  <a:pt x="5042686" y="233885"/>
                  <a:pt x="5004200" y="258324"/>
                </a:cubicBezTo>
                <a:cubicBezTo>
                  <a:pt x="4970096" y="193982"/>
                  <a:pt x="4934278" y="134794"/>
                  <a:pt x="4896173" y="80380"/>
                </a:cubicBezTo>
                <a:cubicBezTo>
                  <a:pt x="4930658" y="59569"/>
                  <a:pt x="4964952" y="38758"/>
                  <a:pt x="4999247" y="17756"/>
                </a:cubicBezTo>
                <a:close/>
                <a:moveTo>
                  <a:pt x="3994611" y="17756"/>
                </a:moveTo>
                <a:cubicBezTo>
                  <a:pt x="4038432" y="76753"/>
                  <a:pt x="4077490" y="133840"/>
                  <a:pt x="4111403" y="188827"/>
                </a:cubicBezTo>
                <a:cubicBezTo>
                  <a:pt x="4075394" y="210592"/>
                  <a:pt x="4038242" y="233885"/>
                  <a:pt x="3999565" y="258324"/>
                </a:cubicBezTo>
                <a:cubicBezTo>
                  <a:pt x="3965652" y="193982"/>
                  <a:pt x="3929643" y="134794"/>
                  <a:pt x="3891728" y="80380"/>
                </a:cubicBezTo>
                <a:cubicBezTo>
                  <a:pt x="3926023" y="59569"/>
                  <a:pt x="3960317" y="38758"/>
                  <a:pt x="3994611" y="17756"/>
                </a:cubicBezTo>
                <a:close/>
                <a:moveTo>
                  <a:pt x="5663415" y="16801"/>
                </a:moveTo>
                <a:cubicBezTo>
                  <a:pt x="5703615" y="16801"/>
                  <a:pt x="5743816" y="16801"/>
                  <a:pt x="5784207" y="16801"/>
                </a:cubicBezTo>
                <a:cubicBezTo>
                  <a:pt x="5784207" y="76180"/>
                  <a:pt x="5784207" y="135367"/>
                  <a:pt x="5784207" y="194745"/>
                </a:cubicBezTo>
                <a:cubicBezTo>
                  <a:pt x="5806308" y="194745"/>
                  <a:pt x="5828599" y="194745"/>
                  <a:pt x="5850891" y="194745"/>
                </a:cubicBezTo>
                <a:cubicBezTo>
                  <a:pt x="5850891" y="237513"/>
                  <a:pt x="5850891" y="280281"/>
                  <a:pt x="5850891" y="322858"/>
                </a:cubicBezTo>
                <a:cubicBezTo>
                  <a:pt x="5828599" y="322858"/>
                  <a:pt x="5806308" y="322858"/>
                  <a:pt x="5784207" y="322858"/>
                </a:cubicBezTo>
                <a:cubicBezTo>
                  <a:pt x="5784207" y="488201"/>
                  <a:pt x="5784207" y="653543"/>
                  <a:pt x="5784207" y="818886"/>
                </a:cubicBezTo>
                <a:cubicBezTo>
                  <a:pt x="5784207" y="868145"/>
                  <a:pt x="5774872" y="905758"/>
                  <a:pt x="5756200" y="931342"/>
                </a:cubicBezTo>
                <a:cubicBezTo>
                  <a:pt x="5737529" y="957117"/>
                  <a:pt x="5711236" y="971055"/>
                  <a:pt x="5677133" y="973155"/>
                </a:cubicBezTo>
                <a:cubicBezTo>
                  <a:pt x="5643219" y="975255"/>
                  <a:pt x="5599970" y="976592"/>
                  <a:pt x="5547766" y="976974"/>
                </a:cubicBezTo>
                <a:cubicBezTo>
                  <a:pt x="5542432" y="932488"/>
                  <a:pt x="5534239" y="889720"/>
                  <a:pt x="5523189" y="848671"/>
                </a:cubicBezTo>
                <a:cubicBezTo>
                  <a:pt x="5552530" y="850771"/>
                  <a:pt x="5582632" y="851726"/>
                  <a:pt x="5613497" y="851726"/>
                </a:cubicBezTo>
                <a:cubicBezTo>
                  <a:pt x="5646839" y="851726"/>
                  <a:pt x="5663415" y="833397"/>
                  <a:pt x="5663415" y="796929"/>
                </a:cubicBezTo>
                <a:cubicBezTo>
                  <a:pt x="5663415" y="639033"/>
                  <a:pt x="5663415" y="480945"/>
                  <a:pt x="5663415" y="322858"/>
                </a:cubicBezTo>
                <a:cubicBezTo>
                  <a:pt x="5611783" y="322858"/>
                  <a:pt x="5560151" y="322858"/>
                  <a:pt x="5508518" y="322858"/>
                </a:cubicBezTo>
                <a:cubicBezTo>
                  <a:pt x="5508518" y="280281"/>
                  <a:pt x="5508518" y="237513"/>
                  <a:pt x="5508518" y="194745"/>
                </a:cubicBezTo>
                <a:cubicBezTo>
                  <a:pt x="5560151" y="194745"/>
                  <a:pt x="5611783" y="194745"/>
                  <a:pt x="5663415" y="194745"/>
                </a:cubicBezTo>
                <a:cubicBezTo>
                  <a:pt x="5663415" y="135367"/>
                  <a:pt x="5663415" y="76180"/>
                  <a:pt x="5663415" y="16801"/>
                </a:cubicBezTo>
                <a:close/>
                <a:moveTo>
                  <a:pt x="4658780" y="16801"/>
                </a:moveTo>
                <a:cubicBezTo>
                  <a:pt x="4698980" y="16801"/>
                  <a:pt x="4739371" y="16801"/>
                  <a:pt x="4779572" y="16801"/>
                </a:cubicBezTo>
                <a:cubicBezTo>
                  <a:pt x="4779572" y="76180"/>
                  <a:pt x="4779572" y="135367"/>
                  <a:pt x="4779572" y="194745"/>
                </a:cubicBezTo>
                <a:cubicBezTo>
                  <a:pt x="4801673" y="194745"/>
                  <a:pt x="4823964" y="194745"/>
                  <a:pt x="4846256" y="194745"/>
                </a:cubicBezTo>
                <a:cubicBezTo>
                  <a:pt x="4846256" y="237513"/>
                  <a:pt x="4846256" y="280281"/>
                  <a:pt x="4846256" y="322858"/>
                </a:cubicBezTo>
                <a:cubicBezTo>
                  <a:pt x="4823964" y="322858"/>
                  <a:pt x="4801673" y="322858"/>
                  <a:pt x="4779572" y="322858"/>
                </a:cubicBezTo>
                <a:cubicBezTo>
                  <a:pt x="4779572" y="488201"/>
                  <a:pt x="4779572" y="653543"/>
                  <a:pt x="4779572" y="818886"/>
                </a:cubicBezTo>
                <a:cubicBezTo>
                  <a:pt x="4779572" y="868145"/>
                  <a:pt x="4770236" y="905758"/>
                  <a:pt x="4751565" y="931342"/>
                </a:cubicBezTo>
                <a:cubicBezTo>
                  <a:pt x="4732894" y="957117"/>
                  <a:pt x="4706601" y="971055"/>
                  <a:pt x="4672497" y="973155"/>
                </a:cubicBezTo>
                <a:cubicBezTo>
                  <a:pt x="4638584" y="975255"/>
                  <a:pt x="4595335" y="976592"/>
                  <a:pt x="4543131" y="976974"/>
                </a:cubicBezTo>
                <a:cubicBezTo>
                  <a:pt x="4537797" y="932488"/>
                  <a:pt x="4529604" y="889720"/>
                  <a:pt x="4518554" y="848671"/>
                </a:cubicBezTo>
                <a:cubicBezTo>
                  <a:pt x="4547894" y="850771"/>
                  <a:pt x="4577997" y="851726"/>
                  <a:pt x="4608862" y="851726"/>
                </a:cubicBezTo>
                <a:cubicBezTo>
                  <a:pt x="4642204" y="851726"/>
                  <a:pt x="4658780" y="833397"/>
                  <a:pt x="4658780" y="796929"/>
                </a:cubicBezTo>
                <a:cubicBezTo>
                  <a:pt x="4658780" y="639033"/>
                  <a:pt x="4658780" y="480945"/>
                  <a:pt x="4658780" y="322858"/>
                </a:cubicBezTo>
                <a:cubicBezTo>
                  <a:pt x="4607148" y="322858"/>
                  <a:pt x="4555515" y="322858"/>
                  <a:pt x="4503883" y="322858"/>
                </a:cubicBezTo>
                <a:cubicBezTo>
                  <a:pt x="4503883" y="280281"/>
                  <a:pt x="4503883" y="237513"/>
                  <a:pt x="4503883" y="194745"/>
                </a:cubicBezTo>
                <a:cubicBezTo>
                  <a:pt x="4555515" y="194745"/>
                  <a:pt x="4607148" y="194745"/>
                  <a:pt x="4658780" y="194745"/>
                </a:cubicBezTo>
                <a:cubicBezTo>
                  <a:pt x="4658780" y="135367"/>
                  <a:pt x="4658780" y="76180"/>
                  <a:pt x="4658780" y="16801"/>
                </a:cubicBezTo>
                <a:close/>
                <a:moveTo>
                  <a:pt x="7304783" y="11837"/>
                </a:moveTo>
                <a:cubicBezTo>
                  <a:pt x="7349175" y="11837"/>
                  <a:pt x="7393757" y="11837"/>
                  <a:pt x="7438150" y="11837"/>
                </a:cubicBezTo>
                <a:cubicBezTo>
                  <a:pt x="7438150" y="50596"/>
                  <a:pt x="7438150" y="89354"/>
                  <a:pt x="7438150" y="128112"/>
                </a:cubicBezTo>
                <a:cubicBezTo>
                  <a:pt x="7471491" y="128112"/>
                  <a:pt x="7504833" y="128112"/>
                  <a:pt x="7538175" y="128112"/>
                </a:cubicBezTo>
                <a:cubicBezTo>
                  <a:pt x="7562753" y="91072"/>
                  <a:pt x="7585615" y="53650"/>
                  <a:pt x="7606954" y="15847"/>
                </a:cubicBezTo>
                <a:cubicBezTo>
                  <a:pt x="7643916" y="31694"/>
                  <a:pt x="7680878" y="47541"/>
                  <a:pt x="7717839" y="63579"/>
                </a:cubicBezTo>
                <a:cubicBezTo>
                  <a:pt x="7702979" y="85153"/>
                  <a:pt x="7688118" y="106537"/>
                  <a:pt x="7673066" y="128112"/>
                </a:cubicBezTo>
                <a:cubicBezTo>
                  <a:pt x="7727556" y="128112"/>
                  <a:pt x="7782046" y="128112"/>
                  <a:pt x="7836536" y="128112"/>
                </a:cubicBezTo>
                <a:cubicBezTo>
                  <a:pt x="7836536" y="201619"/>
                  <a:pt x="7836536" y="275317"/>
                  <a:pt x="7836536" y="348824"/>
                </a:cubicBezTo>
                <a:cubicBezTo>
                  <a:pt x="7796526" y="348824"/>
                  <a:pt x="7756706" y="348824"/>
                  <a:pt x="7716887" y="348824"/>
                </a:cubicBezTo>
                <a:cubicBezTo>
                  <a:pt x="7716887" y="309684"/>
                  <a:pt x="7716887" y="270543"/>
                  <a:pt x="7716887" y="231403"/>
                </a:cubicBezTo>
                <a:cubicBezTo>
                  <a:pt x="7487305" y="231403"/>
                  <a:pt x="7257723" y="231403"/>
                  <a:pt x="7028141" y="231403"/>
                </a:cubicBezTo>
                <a:cubicBezTo>
                  <a:pt x="7028141" y="270543"/>
                  <a:pt x="7028141" y="309684"/>
                  <a:pt x="7028141" y="348824"/>
                </a:cubicBezTo>
                <a:cubicBezTo>
                  <a:pt x="6988131" y="348824"/>
                  <a:pt x="6948311" y="348824"/>
                  <a:pt x="6908492" y="348824"/>
                </a:cubicBezTo>
                <a:cubicBezTo>
                  <a:pt x="6908492" y="275317"/>
                  <a:pt x="6908492" y="201619"/>
                  <a:pt x="6908492" y="128112"/>
                </a:cubicBezTo>
                <a:cubicBezTo>
                  <a:pt x="6960314" y="128112"/>
                  <a:pt x="7012137" y="128112"/>
                  <a:pt x="7063960" y="128112"/>
                </a:cubicBezTo>
                <a:cubicBezTo>
                  <a:pt x="7051766" y="107301"/>
                  <a:pt x="7039191" y="86299"/>
                  <a:pt x="7026236" y="65488"/>
                </a:cubicBezTo>
                <a:cubicBezTo>
                  <a:pt x="7061102" y="49259"/>
                  <a:pt x="7096158" y="33030"/>
                  <a:pt x="7131024" y="16801"/>
                </a:cubicBezTo>
                <a:cubicBezTo>
                  <a:pt x="7156364" y="54605"/>
                  <a:pt x="7179798" y="91645"/>
                  <a:pt x="7201709" y="128112"/>
                </a:cubicBezTo>
                <a:cubicBezTo>
                  <a:pt x="7236003" y="128112"/>
                  <a:pt x="7270488" y="128112"/>
                  <a:pt x="7304783" y="128112"/>
                </a:cubicBezTo>
                <a:cubicBezTo>
                  <a:pt x="7304783" y="89354"/>
                  <a:pt x="7304783" y="50596"/>
                  <a:pt x="7304783" y="11837"/>
                </a:cubicBezTo>
                <a:close/>
                <a:moveTo>
                  <a:pt x="5261218" y="0"/>
                </a:moveTo>
                <a:cubicBezTo>
                  <a:pt x="5309039" y="4964"/>
                  <a:pt x="5356671" y="9928"/>
                  <a:pt x="5404492" y="14892"/>
                </a:cubicBezTo>
                <a:cubicBezTo>
                  <a:pt x="5390774" y="45631"/>
                  <a:pt x="5376295" y="76753"/>
                  <a:pt x="5361243" y="108255"/>
                </a:cubicBezTo>
                <a:cubicBezTo>
                  <a:pt x="5402777" y="108255"/>
                  <a:pt x="5444312" y="108255"/>
                  <a:pt x="5485846" y="108255"/>
                </a:cubicBezTo>
                <a:cubicBezTo>
                  <a:pt x="5485846" y="214029"/>
                  <a:pt x="5485846" y="319994"/>
                  <a:pt x="5485846" y="425767"/>
                </a:cubicBezTo>
                <a:cubicBezTo>
                  <a:pt x="5516902" y="414312"/>
                  <a:pt x="5547957" y="402856"/>
                  <a:pt x="5579012" y="391591"/>
                </a:cubicBezTo>
                <a:cubicBezTo>
                  <a:pt x="5615022" y="482282"/>
                  <a:pt x="5641886" y="561135"/>
                  <a:pt x="5659604" y="627959"/>
                </a:cubicBezTo>
                <a:cubicBezTo>
                  <a:pt x="5623595" y="640560"/>
                  <a:pt x="5587586" y="653161"/>
                  <a:pt x="5551577" y="665763"/>
                </a:cubicBezTo>
                <a:cubicBezTo>
                  <a:pt x="5532334" y="596647"/>
                  <a:pt x="5510424" y="524286"/>
                  <a:pt x="5485846" y="449061"/>
                </a:cubicBezTo>
                <a:cubicBezTo>
                  <a:pt x="5485846" y="580418"/>
                  <a:pt x="5485846" y="711585"/>
                  <a:pt x="5485846" y="842752"/>
                </a:cubicBezTo>
                <a:cubicBezTo>
                  <a:pt x="5485846" y="887429"/>
                  <a:pt x="5477082" y="921032"/>
                  <a:pt x="5459554" y="943561"/>
                </a:cubicBezTo>
                <a:cubicBezTo>
                  <a:pt x="5442216" y="966091"/>
                  <a:pt x="5417448" y="977737"/>
                  <a:pt x="5385821" y="978310"/>
                </a:cubicBezTo>
                <a:cubicBezTo>
                  <a:pt x="5354003" y="979074"/>
                  <a:pt x="5314184" y="979456"/>
                  <a:pt x="5266171" y="979456"/>
                </a:cubicBezTo>
                <a:cubicBezTo>
                  <a:pt x="5260265" y="939934"/>
                  <a:pt x="5252644" y="900412"/>
                  <a:pt x="5243499" y="860699"/>
                </a:cubicBezTo>
                <a:cubicBezTo>
                  <a:pt x="5279508" y="865281"/>
                  <a:pt x="5307706" y="867572"/>
                  <a:pt x="5327901" y="867572"/>
                </a:cubicBezTo>
                <a:cubicBezTo>
                  <a:pt x="5354765" y="867572"/>
                  <a:pt x="5368102" y="852680"/>
                  <a:pt x="5368102" y="822896"/>
                </a:cubicBezTo>
                <a:cubicBezTo>
                  <a:pt x="5368102" y="793302"/>
                  <a:pt x="5368102" y="763899"/>
                  <a:pt x="5368102" y="734305"/>
                </a:cubicBezTo>
                <a:cubicBezTo>
                  <a:pt x="5300847" y="808194"/>
                  <a:pt x="5229210" y="868527"/>
                  <a:pt x="5153381" y="915304"/>
                </a:cubicBezTo>
                <a:cubicBezTo>
                  <a:pt x="5143093" y="900030"/>
                  <a:pt x="5131471" y="884374"/>
                  <a:pt x="5117943" y="868145"/>
                </a:cubicBezTo>
                <a:cubicBezTo>
                  <a:pt x="5062310" y="907094"/>
                  <a:pt x="5016584" y="943180"/>
                  <a:pt x="4980575" y="975828"/>
                </a:cubicBezTo>
                <a:cubicBezTo>
                  <a:pt x="4957141" y="946998"/>
                  <a:pt x="4933516" y="918168"/>
                  <a:pt x="4910081" y="889529"/>
                </a:cubicBezTo>
                <a:cubicBezTo>
                  <a:pt x="4930848" y="866236"/>
                  <a:pt x="4941327" y="838361"/>
                  <a:pt x="4941327" y="805903"/>
                </a:cubicBezTo>
                <a:cubicBezTo>
                  <a:pt x="4941327" y="681419"/>
                  <a:pt x="4941327" y="556743"/>
                  <a:pt x="4941327" y="432259"/>
                </a:cubicBezTo>
                <a:cubicBezTo>
                  <a:pt x="4919417" y="432259"/>
                  <a:pt x="4897507" y="432259"/>
                  <a:pt x="4875596" y="432259"/>
                </a:cubicBezTo>
                <a:cubicBezTo>
                  <a:pt x="4875596" y="389109"/>
                  <a:pt x="4875596" y="346151"/>
                  <a:pt x="4875596" y="303001"/>
                </a:cubicBezTo>
                <a:cubicBezTo>
                  <a:pt x="4937136" y="303001"/>
                  <a:pt x="4998675" y="303001"/>
                  <a:pt x="5060024" y="303001"/>
                </a:cubicBezTo>
                <a:cubicBezTo>
                  <a:pt x="5060024" y="453452"/>
                  <a:pt x="5060024" y="603902"/>
                  <a:pt x="5060024" y="754353"/>
                </a:cubicBezTo>
                <a:cubicBezTo>
                  <a:pt x="5069931" y="746907"/>
                  <a:pt x="5096795" y="729341"/>
                  <a:pt x="5140616" y="701657"/>
                </a:cubicBezTo>
                <a:cubicBezTo>
                  <a:pt x="5142521" y="728769"/>
                  <a:pt x="5144807" y="754353"/>
                  <a:pt x="5147475" y="778219"/>
                </a:cubicBezTo>
                <a:cubicBezTo>
                  <a:pt x="5200631" y="745952"/>
                  <a:pt x="5251501" y="708148"/>
                  <a:pt x="5299894" y="664808"/>
                </a:cubicBezTo>
                <a:cubicBezTo>
                  <a:pt x="5232068" y="664808"/>
                  <a:pt x="5164241" y="664808"/>
                  <a:pt x="5096414" y="664808"/>
                </a:cubicBezTo>
                <a:cubicBezTo>
                  <a:pt x="5096414" y="630441"/>
                  <a:pt x="5096414" y="595883"/>
                  <a:pt x="5096414" y="561517"/>
                </a:cubicBezTo>
                <a:cubicBezTo>
                  <a:pt x="5111085" y="561517"/>
                  <a:pt x="5125755" y="561517"/>
                  <a:pt x="5140616" y="561517"/>
                </a:cubicBezTo>
                <a:cubicBezTo>
                  <a:pt x="5140616" y="410302"/>
                  <a:pt x="5140616" y="259279"/>
                  <a:pt x="5140616" y="108255"/>
                </a:cubicBezTo>
                <a:cubicBezTo>
                  <a:pt x="5171100" y="108255"/>
                  <a:pt x="5201774" y="108255"/>
                  <a:pt x="5232258" y="108255"/>
                </a:cubicBezTo>
                <a:cubicBezTo>
                  <a:pt x="5242737" y="74843"/>
                  <a:pt x="5252454" y="38758"/>
                  <a:pt x="5261218" y="0"/>
                </a:cubicBezTo>
                <a:close/>
                <a:moveTo>
                  <a:pt x="4256583" y="0"/>
                </a:moveTo>
                <a:cubicBezTo>
                  <a:pt x="4304404" y="4964"/>
                  <a:pt x="4352035" y="9928"/>
                  <a:pt x="4399857" y="14892"/>
                </a:cubicBezTo>
                <a:cubicBezTo>
                  <a:pt x="4386139" y="45631"/>
                  <a:pt x="4371659" y="76753"/>
                  <a:pt x="4356608" y="108255"/>
                </a:cubicBezTo>
                <a:cubicBezTo>
                  <a:pt x="4398142" y="108255"/>
                  <a:pt x="4439677" y="108255"/>
                  <a:pt x="4481211" y="108255"/>
                </a:cubicBezTo>
                <a:cubicBezTo>
                  <a:pt x="4481211" y="214029"/>
                  <a:pt x="4481211" y="319994"/>
                  <a:pt x="4481211" y="425767"/>
                </a:cubicBezTo>
                <a:cubicBezTo>
                  <a:pt x="4512266" y="414312"/>
                  <a:pt x="4543322" y="402856"/>
                  <a:pt x="4574377" y="391591"/>
                </a:cubicBezTo>
                <a:cubicBezTo>
                  <a:pt x="4610386" y="482282"/>
                  <a:pt x="4637250" y="561135"/>
                  <a:pt x="4654969" y="627959"/>
                </a:cubicBezTo>
                <a:cubicBezTo>
                  <a:pt x="4618960" y="640560"/>
                  <a:pt x="4582951" y="653161"/>
                  <a:pt x="4546942" y="665763"/>
                </a:cubicBezTo>
                <a:cubicBezTo>
                  <a:pt x="4527699" y="596647"/>
                  <a:pt x="4505789" y="524286"/>
                  <a:pt x="4481211" y="449061"/>
                </a:cubicBezTo>
                <a:cubicBezTo>
                  <a:pt x="4481211" y="580418"/>
                  <a:pt x="4481211" y="711585"/>
                  <a:pt x="4481211" y="842752"/>
                </a:cubicBezTo>
                <a:cubicBezTo>
                  <a:pt x="4481211" y="887429"/>
                  <a:pt x="4472447" y="921032"/>
                  <a:pt x="4455109" y="943561"/>
                </a:cubicBezTo>
                <a:cubicBezTo>
                  <a:pt x="4437581" y="966091"/>
                  <a:pt x="4413003" y="977737"/>
                  <a:pt x="4381186" y="978310"/>
                </a:cubicBezTo>
                <a:cubicBezTo>
                  <a:pt x="4349559" y="979074"/>
                  <a:pt x="4309548" y="979456"/>
                  <a:pt x="4261536" y="979456"/>
                </a:cubicBezTo>
                <a:cubicBezTo>
                  <a:pt x="4255630" y="939934"/>
                  <a:pt x="4248200" y="900412"/>
                  <a:pt x="4238864" y="860699"/>
                </a:cubicBezTo>
                <a:cubicBezTo>
                  <a:pt x="4274873" y="865281"/>
                  <a:pt x="4303071" y="867572"/>
                  <a:pt x="4323266" y="867572"/>
                </a:cubicBezTo>
                <a:cubicBezTo>
                  <a:pt x="4350130" y="867572"/>
                  <a:pt x="4363467" y="852680"/>
                  <a:pt x="4363467" y="822896"/>
                </a:cubicBezTo>
                <a:cubicBezTo>
                  <a:pt x="4363467" y="793302"/>
                  <a:pt x="4363467" y="763899"/>
                  <a:pt x="4363467" y="734305"/>
                </a:cubicBezTo>
                <a:cubicBezTo>
                  <a:pt x="4296212" y="808194"/>
                  <a:pt x="4224575" y="868527"/>
                  <a:pt x="4148746" y="915304"/>
                </a:cubicBezTo>
                <a:cubicBezTo>
                  <a:pt x="4138648" y="900030"/>
                  <a:pt x="4126835" y="884374"/>
                  <a:pt x="4113308" y="868145"/>
                </a:cubicBezTo>
                <a:cubicBezTo>
                  <a:pt x="4057866" y="907094"/>
                  <a:pt x="4011949" y="943180"/>
                  <a:pt x="3975940" y="975828"/>
                </a:cubicBezTo>
                <a:cubicBezTo>
                  <a:pt x="3952506" y="946998"/>
                  <a:pt x="3928881" y="918168"/>
                  <a:pt x="3905446" y="889529"/>
                </a:cubicBezTo>
                <a:cubicBezTo>
                  <a:pt x="3926404" y="866236"/>
                  <a:pt x="3936692" y="838361"/>
                  <a:pt x="3936692" y="805903"/>
                </a:cubicBezTo>
                <a:lnTo>
                  <a:pt x="3936692" y="433388"/>
                </a:lnTo>
                <a:lnTo>
                  <a:pt x="0" y="433388"/>
                </a:lnTo>
                <a:lnTo>
                  <a:pt x="0" y="303525"/>
                </a:lnTo>
                <a:lnTo>
                  <a:pt x="3870961" y="303525"/>
                </a:lnTo>
                <a:lnTo>
                  <a:pt x="3870961" y="303001"/>
                </a:lnTo>
                <a:cubicBezTo>
                  <a:pt x="3932501" y="303001"/>
                  <a:pt x="3994040" y="303001"/>
                  <a:pt x="4055579" y="303001"/>
                </a:cubicBezTo>
                <a:cubicBezTo>
                  <a:pt x="4055579" y="453452"/>
                  <a:pt x="4055579" y="603902"/>
                  <a:pt x="4055579" y="754353"/>
                </a:cubicBezTo>
                <a:cubicBezTo>
                  <a:pt x="4065296" y="746907"/>
                  <a:pt x="4092160" y="729341"/>
                  <a:pt x="4135981" y="701657"/>
                </a:cubicBezTo>
                <a:cubicBezTo>
                  <a:pt x="4137886" y="728769"/>
                  <a:pt x="4140172" y="754353"/>
                  <a:pt x="4142839" y="778219"/>
                </a:cubicBezTo>
                <a:cubicBezTo>
                  <a:pt x="4196186" y="745952"/>
                  <a:pt x="4247056" y="708148"/>
                  <a:pt x="4295450" y="664808"/>
                </a:cubicBezTo>
                <a:cubicBezTo>
                  <a:pt x="4227432" y="664808"/>
                  <a:pt x="4159606" y="664808"/>
                  <a:pt x="4091779" y="664808"/>
                </a:cubicBezTo>
                <a:cubicBezTo>
                  <a:pt x="4091779" y="630441"/>
                  <a:pt x="4091779" y="595883"/>
                  <a:pt x="4091779" y="561517"/>
                </a:cubicBezTo>
                <a:cubicBezTo>
                  <a:pt x="4106449" y="561517"/>
                  <a:pt x="4121310" y="561517"/>
                  <a:pt x="4135981" y="561517"/>
                </a:cubicBezTo>
                <a:cubicBezTo>
                  <a:pt x="4135981" y="410302"/>
                  <a:pt x="4135981" y="259279"/>
                  <a:pt x="4135981" y="108255"/>
                </a:cubicBezTo>
                <a:cubicBezTo>
                  <a:pt x="4166464" y="108255"/>
                  <a:pt x="4197139" y="108255"/>
                  <a:pt x="4227623" y="108255"/>
                </a:cubicBezTo>
                <a:cubicBezTo>
                  <a:pt x="4238102" y="74843"/>
                  <a:pt x="4247819" y="38758"/>
                  <a:pt x="4256583" y="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reeform 9"/>
          <p:cNvSpPr/>
          <p:nvPr/>
        </p:nvSpPr>
        <p:spPr>
          <a:xfrm>
            <a:off x="5415120" y="4529160"/>
            <a:ext cx="2143080" cy="565200"/>
          </a:xfrm>
          <a:custGeom>
            <a:avLst/>
            <a:gdLst>
              <a:gd name="textAreaLeft" fmla="*/ 0 w 2143080"/>
              <a:gd name="textAreaRight" fmla="*/ 2143440 w 2143080"/>
              <a:gd name="textAreaTop" fmla="*/ 0 h 565200"/>
              <a:gd name="textAreaBottom" fmla="*/ 565560 h 565200"/>
            </a:gdLst>
            <a:ahLst/>
            <a:rect l="textAreaLeft" t="textAreaTop" r="textAreaRight" b="textAreaBottom"/>
            <a:pathLst>
              <a:path w="22500" h="5907">
                <a:moveTo>
                  <a:pt x="11204" y="4079"/>
                </a:moveTo>
                <a:cubicBezTo>
                  <a:pt x="11042" y="4079"/>
                  <a:pt x="10903" y="4114"/>
                  <a:pt x="10788" y="4184"/>
                </a:cubicBezTo>
                <a:cubicBezTo>
                  <a:pt x="10672" y="4278"/>
                  <a:pt x="10614" y="4407"/>
                  <a:pt x="10614" y="4571"/>
                </a:cubicBezTo>
                <a:cubicBezTo>
                  <a:pt x="10614" y="4735"/>
                  <a:pt x="10672" y="4864"/>
                  <a:pt x="10788" y="4958"/>
                </a:cubicBezTo>
                <a:cubicBezTo>
                  <a:pt x="10903" y="5052"/>
                  <a:pt x="11042" y="5099"/>
                  <a:pt x="11204" y="5099"/>
                </a:cubicBezTo>
                <a:cubicBezTo>
                  <a:pt x="11804" y="5099"/>
                  <a:pt x="12405" y="5099"/>
                  <a:pt x="13006" y="5099"/>
                </a:cubicBezTo>
                <a:cubicBezTo>
                  <a:pt x="13006" y="4759"/>
                  <a:pt x="13006" y="4419"/>
                  <a:pt x="13006" y="4079"/>
                </a:cubicBezTo>
                <a:cubicBezTo>
                  <a:pt x="12405" y="4079"/>
                  <a:pt x="11804" y="4079"/>
                  <a:pt x="11204" y="4079"/>
                </a:cubicBezTo>
                <a:close/>
                <a:moveTo>
                  <a:pt x="14254" y="1723"/>
                </a:moveTo>
                <a:cubicBezTo>
                  <a:pt x="14821" y="1723"/>
                  <a:pt x="15387" y="1723"/>
                  <a:pt x="15953" y="1723"/>
                </a:cubicBezTo>
                <a:cubicBezTo>
                  <a:pt x="16624" y="1723"/>
                  <a:pt x="17120" y="1864"/>
                  <a:pt x="17444" y="2145"/>
                </a:cubicBezTo>
                <a:cubicBezTo>
                  <a:pt x="17837" y="2497"/>
                  <a:pt x="18033" y="3083"/>
                  <a:pt x="18033" y="3903"/>
                </a:cubicBezTo>
                <a:cubicBezTo>
                  <a:pt x="18033" y="4571"/>
                  <a:pt x="18033" y="5239"/>
                  <a:pt x="18033" y="5907"/>
                </a:cubicBezTo>
                <a:cubicBezTo>
                  <a:pt x="17756" y="5907"/>
                  <a:pt x="17479" y="5907"/>
                  <a:pt x="17201" y="5907"/>
                </a:cubicBezTo>
                <a:cubicBezTo>
                  <a:pt x="17201" y="5239"/>
                  <a:pt x="17201" y="4571"/>
                  <a:pt x="17201" y="3903"/>
                </a:cubicBezTo>
                <a:cubicBezTo>
                  <a:pt x="17201" y="3341"/>
                  <a:pt x="17097" y="2966"/>
                  <a:pt x="16889" y="2778"/>
                </a:cubicBezTo>
                <a:cubicBezTo>
                  <a:pt x="16728" y="2614"/>
                  <a:pt x="16416" y="2532"/>
                  <a:pt x="15953" y="2532"/>
                </a:cubicBezTo>
                <a:cubicBezTo>
                  <a:pt x="15653" y="2532"/>
                  <a:pt x="15352" y="2532"/>
                  <a:pt x="15052" y="2532"/>
                </a:cubicBezTo>
                <a:cubicBezTo>
                  <a:pt x="15052" y="3657"/>
                  <a:pt x="15052" y="4782"/>
                  <a:pt x="15052" y="5907"/>
                </a:cubicBezTo>
                <a:cubicBezTo>
                  <a:pt x="14786" y="5907"/>
                  <a:pt x="14520" y="5907"/>
                  <a:pt x="14254" y="5907"/>
                </a:cubicBezTo>
                <a:cubicBezTo>
                  <a:pt x="14254" y="4513"/>
                  <a:pt x="14254" y="3118"/>
                  <a:pt x="14254" y="1723"/>
                </a:cubicBezTo>
                <a:close/>
                <a:moveTo>
                  <a:pt x="9886" y="1688"/>
                </a:moveTo>
                <a:cubicBezTo>
                  <a:pt x="10556" y="1688"/>
                  <a:pt x="11227" y="1688"/>
                  <a:pt x="11897" y="1688"/>
                </a:cubicBezTo>
                <a:cubicBezTo>
                  <a:pt x="12521" y="1688"/>
                  <a:pt x="12995" y="1852"/>
                  <a:pt x="13318" y="2180"/>
                </a:cubicBezTo>
                <a:cubicBezTo>
                  <a:pt x="13642" y="2508"/>
                  <a:pt x="13804" y="2954"/>
                  <a:pt x="13804" y="3516"/>
                </a:cubicBezTo>
                <a:cubicBezTo>
                  <a:pt x="13804" y="4313"/>
                  <a:pt x="13804" y="5110"/>
                  <a:pt x="13804" y="5907"/>
                </a:cubicBezTo>
                <a:cubicBezTo>
                  <a:pt x="12937" y="5907"/>
                  <a:pt x="12070" y="5907"/>
                  <a:pt x="11204" y="5907"/>
                </a:cubicBezTo>
                <a:cubicBezTo>
                  <a:pt x="10903" y="5907"/>
                  <a:pt x="10626" y="5825"/>
                  <a:pt x="10371" y="5661"/>
                </a:cubicBezTo>
                <a:cubicBezTo>
                  <a:pt x="10002" y="5427"/>
                  <a:pt x="9817" y="5063"/>
                  <a:pt x="9817" y="4571"/>
                </a:cubicBezTo>
                <a:cubicBezTo>
                  <a:pt x="9817" y="4102"/>
                  <a:pt x="10002" y="3739"/>
                  <a:pt x="10371" y="3481"/>
                </a:cubicBezTo>
                <a:cubicBezTo>
                  <a:pt x="10626" y="3317"/>
                  <a:pt x="10903" y="3235"/>
                  <a:pt x="11204" y="3235"/>
                </a:cubicBezTo>
                <a:cubicBezTo>
                  <a:pt x="11793" y="3235"/>
                  <a:pt x="12382" y="3235"/>
                  <a:pt x="12972" y="3235"/>
                </a:cubicBezTo>
                <a:cubicBezTo>
                  <a:pt x="12902" y="2766"/>
                  <a:pt x="12544" y="2532"/>
                  <a:pt x="11897" y="2532"/>
                </a:cubicBezTo>
                <a:cubicBezTo>
                  <a:pt x="11227" y="2532"/>
                  <a:pt x="10556" y="2532"/>
                  <a:pt x="9886" y="2532"/>
                </a:cubicBezTo>
                <a:cubicBezTo>
                  <a:pt x="9886" y="2251"/>
                  <a:pt x="9886" y="1969"/>
                  <a:pt x="9886" y="1688"/>
                </a:cubicBezTo>
                <a:close/>
                <a:moveTo>
                  <a:pt x="18444" y="0"/>
                </a:moveTo>
                <a:cubicBezTo>
                  <a:pt x="18709" y="0"/>
                  <a:pt x="18975" y="0"/>
                  <a:pt x="19241" y="0"/>
                </a:cubicBezTo>
                <a:cubicBezTo>
                  <a:pt x="19241" y="1067"/>
                  <a:pt x="19241" y="2133"/>
                  <a:pt x="19241" y="3200"/>
                </a:cubicBezTo>
                <a:cubicBezTo>
                  <a:pt x="19865" y="2708"/>
                  <a:pt x="20489" y="2215"/>
                  <a:pt x="21113" y="1723"/>
                </a:cubicBezTo>
                <a:cubicBezTo>
                  <a:pt x="21552" y="1723"/>
                  <a:pt x="21991" y="1723"/>
                  <a:pt x="22431" y="1723"/>
                </a:cubicBezTo>
                <a:cubicBezTo>
                  <a:pt x="21656" y="2333"/>
                  <a:pt x="20882" y="2942"/>
                  <a:pt x="20108" y="3552"/>
                </a:cubicBezTo>
                <a:cubicBezTo>
                  <a:pt x="20905" y="4337"/>
                  <a:pt x="21703" y="5122"/>
                  <a:pt x="22500" y="5907"/>
                </a:cubicBezTo>
                <a:cubicBezTo>
                  <a:pt x="22107" y="5907"/>
                  <a:pt x="21714" y="5907"/>
                  <a:pt x="21321" y="5907"/>
                </a:cubicBezTo>
                <a:cubicBezTo>
                  <a:pt x="20628" y="5216"/>
                  <a:pt x="19934" y="4524"/>
                  <a:pt x="19241" y="3833"/>
                </a:cubicBezTo>
                <a:cubicBezTo>
                  <a:pt x="19241" y="4524"/>
                  <a:pt x="19241" y="5216"/>
                  <a:pt x="19241" y="5907"/>
                </a:cubicBezTo>
                <a:cubicBezTo>
                  <a:pt x="18975" y="5907"/>
                  <a:pt x="18709" y="5907"/>
                  <a:pt x="18444" y="5907"/>
                </a:cubicBezTo>
                <a:cubicBezTo>
                  <a:pt x="18444" y="3938"/>
                  <a:pt x="18444" y="1969"/>
                  <a:pt x="18444" y="0"/>
                </a:cubicBezTo>
                <a:close/>
                <a:moveTo>
                  <a:pt x="5787" y="0"/>
                </a:moveTo>
                <a:cubicBezTo>
                  <a:pt x="6053" y="0"/>
                  <a:pt x="6319" y="0"/>
                  <a:pt x="6585" y="0"/>
                </a:cubicBezTo>
                <a:cubicBezTo>
                  <a:pt x="6585" y="575"/>
                  <a:pt x="6585" y="1149"/>
                  <a:pt x="6585" y="1723"/>
                </a:cubicBezTo>
                <a:cubicBezTo>
                  <a:pt x="6908" y="1723"/>
                  <a:pt x="7232" y="1723"/>
                  <a:pt x="7556" y="1723"/>
                </a:cubicBezTo>
                <a:cubicBezTo>
                  <a:pt x="8757" y="1723"/>
                  <a:pt x="9358" y="2321"/>
                  <a:pt x="9358" y="3516"/>
                </a:cubicBezTo>
                <a:cubicBezTo>
                  <a:pt x="9358" y="4313"/>
                  <a:pt x="9358" y="5110"/>
                  <a:pt x="9358" y="5907"/>
                </a:cubicBezTo>
                <a:cubicBezTo>
                  <a:pt x="9093" y="5907"/>
                  <a:pt x="8827" y="5907"/>
                  <a:pt x="8561" y="5907"/>
                </a:cubicBezTo>
                <a:cubicBezTo>
                  <a:pt x="8561" y="5110"/>
                  <a:pt x="8561" y="4313"/>
                  <a:pt x="8561" y="3516"/>
                </a:cubicBezTo>
                <a:cubicBezTo>
                  <a:pt x="8561" y="3165"/>
                  <a:pt x="8503" y="2919"/>
                  <a:pt x="8388" y="2778"/>
                </a:cubicBezTo>
                <a:cubicBezTo>
                  <a:pt x="8226" y="2614"/>
                  <a:pt x="7948" y="2532"/>
                  <a:pt x="7556" y="2532"/>
                </a:cubicBezTo>
                <a:cubicBezTo>
                  <a:pt x="7232" y="2532"/>
                  <a:pt x="6908" y="2532"/>
                  <a:pt x="6585" y="2532"/>
                </a:cubicBezTo>
                <a:cubicBezTo>
                  <a:pt x="6585" y="3657"/>
                  <a:pt x="6585" y="4782"/>
                  <a:pt x="6585" y="5907"/>
                </a:cubicBezTo>
                <a:cubicBezTo>
                  <a:pt x="6319" y="5907"/>
                  <a:pt x="6053" y="5907"/>
                  <a:pt x="5787" y="5907"/>
                </a:cubicBezTo>
                <a:cubicBezTo>
                  <a:pt x="5787" y="3938"/>
                  <a:pt x="5787" y="1969"/>
                  <a:pt x="5787" y="0"/>
                </a:cubicBezTo>
                <a:close/>
                <a:moveTo>
                  <a:pt x="0" y="0"/>
                </a:moveTo>
                <a:cubicBezTo>
                  <a:pt x="1768" y="0"/>
                  <a:pt x="3536" y="0"/>
                  <a:pt x="5304" y="0"/>
                </a:cubicBezTo>
                <a:cubicBezTo>
                  <a:pt x="5304" y="282"/>
                  <a:pt x="5304" y="563"/>
                  <a:pt x="5304" y="844"/>
                </a:cubicBezTo>
                <a:cubicBezTo>
                  <a:pt x="4553" y="844"/>
                  <a:pt x="3802" y="844"/>
                  <a:pt x="3051" y="844"/>
                </a:cubicBezTo>
                <a:cubicBezTo>
                  <a:pt x="3051" y="2532"/>
                  <a:pt x="3051" y="4220"/>
                  <a:pt x="3051" y="5907"/>
                </a:cubicBezTo>
                <a:cubicBezTo>
                  <a:pt x="2785" y="5907"/>
                  <a:pt x="2519" y="5907"/>
                  <a:pt x="2253" y="5907"/>
                </a:cubicBezTo>
                <a:cubicBezTo>
                  <a:pt x="2253" y="4220"/>
                  <a:pt x="2253" y="2532"/>
                  <a:pt x="2253" y="844"/>
                </a:cubicBezTo>
                <a:cubicBezTo>
                  <a:pt x="1502" y="844"/>
                  <a:pt x="751" y="844"/>
                  <a:pt x="0" y="844"/>
                </a:cubicBezTo>
                <a:cubicBezTo>
                  <a:pt x="0" y="563"/>
                  <a:pt x="0" y="282"/>
                  <a:pt x="0" y="0"/>
                </a:cubicBezTo>
                <a:close/>
              </a:path>
            </a:pathLst>
          </a:custGeom>
          <a:solidFill>
            <a:srgbClr val="d1f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reeform 10"/>
          <p:cNvSpPr/>
          <p:nvPr/>
        </p:nvSpPr>
        <p:spPr>
          <a:xfrm>
            <a:off x="7835760" y="4529160"/>
            <a:ext cx="1430640" cy="581040"/>
          </a:xfrm>
          <a:custGeom>
            <a:avLst/>
            <a:gdLst>
              <a:gd name="textAreaLeft" fmla="*/ 0 w 1430640"/>
              <a:gd name="textAreaRight" fmla="*/ 1431000 w 1430640"/>
              <a:gd name="textAreaTop" fmla="*/ 0 h 581040"/>
              <a:gd name="textAreaBottom" fmla="*/ 581400 h 581040"/>
            </a:gdLst>
            <a:ahLst/>
            <a:rect l="textAreaLeft" t="textAreaTop" r="textAreaRight" b="textAreaBottom"/>
            <a:pathLst>
              <a:path w="7507" h="3042">
                <a:moveTo>
                  <a:pt x="4234" y="1178"/>
                </a:moveTo>
                <a:cubicBezTo>
                  <a:pt x="4037" y="1178"/>
                  <a:pt x="3870" y="1249"/>
                  <a:pt x="3731" y="1389"/>
                </a:cubicBezTo>
                <a:cubicBezTo>
                  <a:pt x="3592" y="1530"/>
                  <a:pt x="3523" y="1700"/>
                  <a:pt x="3523" y="1899"/>
                </a:cubicBezTo>
                <a:cubicBezTo>
                  <a:pt x="3523" y="2098"/>
                  <a:pt x="3592" y="2268"/>
                  <a:pt x="3731" y="2409"/>
                </a:cubicBezTo>
                <a:cubicBezTo>
                  <a:pt x="3870" y="2549"/>
                  <a:pt x="4037" y="2620"/>
                  <a:pt x="4234" y="2620"/>
                </a:cubicBezTo>
                <a:cubicBezTo>
                  <a:pt x="4430" y="2620"/>
                  <a:pt x="4598" y="2549"/>
                  <a:pt x="4736" y="2409"/>
                </a:cubicBezTo>
                <a:cubicBezTo>
                  <a:pt x="4887" y="2268"/>
                  <a:pt x="4962" y="2098"/>
                  <a:pt x="4962" y="1899"/>
                </a:cubicBezTo>
                <a:cubicBezTo>
                  <a:pt x="4962" y="1700"/>
                  <a:pt x="4887" y="1530"/>
                  <a:pt x="4736" y="1389"/>
                </a:cubicBezTo>
                <a:cubicBezTo>
                  <a:pt x="4598" y="1249"/>
                  <a:pt x="4430" y="1178"/>
                  <a:pt x="4234" y="1178"/>
                </a:cubicBezTo>
                <a:close/>
                <a:moveTo>
                  <a:pt x="5583" y="862"/>
                </a:moveTo>
                <a:cubicBezTo>
                  <a:pt x="5716" y="862"/>
                  <a:pt x="5848" y="862"/>
                  <a:pt x="5981" y="862"/>
                </a:cubicBezTo>
                <a:cubicBezTo>
                  <a:pt x="5981" y="1219"/>
                  <a:pt x="5981" y="1577"/>
                  <a:pt x="5981" y="1934"/>
                </a:cubicBezTo>
                <a:cubicBezTo>
                  <a:pt x="5981" y="2180"/>
                  <a:pt x="6045" y="2350"/>
                  <a:pt x="6172" y="2444"/>
                </a:cubicBezTo>
                <a:cubicBezTo>
                  <a:pt x="6264" y="2503"/>
                  <a:pt x="6409" y="2532"/>
                  <a:pt x="6605" y="2532"/>
                </a:cubicBezTo>
                <a:cubicBezTo>
                  <a:pt x="6773" y="2532"/>
                  <a:pt x="6941" y="2532"/>
                  <a:pt x="7108" y="2532"/>
                </a:cubicBezTo>
                <a:cubicBezTo>
                  <a:pt x="7108" y="1975"/>
                  <a:pt x="7108" y="1419"/>
                  <a:pt x="7108" y="862"/>
                </a:cubicBezTo>
                <a:cubicBezTo>
                  <a:pt x="7241" y="862"/>
                  <a:pt x="7374" y="862"/>
                  <a:pt x="7507" y="862"/>
                </a:cubicBezTo>
                <a:cubicBezTo>
                  <a:pt x="7507" y="1559"/>
                  <a:pt x="7507" y="2257"/>
                  <a:pt x="7507" y="2954"/>
                </a:cubicBezTo>
                <a:cubicBezTo>
                  <a:pt x="7206" y="2954"/>
                  <a:pt x="6906" y="2954"/>
                  <a:pt x="6605" y="2954"/>
                </a:cubicBezTo>
                <a:cubicBezTo>
                  <a:pt x="5924" y="2954"/>
                  <a:pt x="5583" y="2614"/>
                  <a:pt x="5583" y="1934"/>
                </a:cubicBezTo>
                <a:cubicBezTo>
                  <a:pt x="5583" y="1577"/>
                  <a:pt x="5583" y="1219"/>
                  <a:pt x="5583" y="862"/>
                </a:cubicBezTo>
                <a:close/>
                <a:moveTo>
                  <a:pt x="4234" y="756"/>
                </a:moveTo>
                <a:cubicBezTo>
                  <a:pt x="4546" y="756"/>
                  <a:pt x="4811" y="868"/>
                  <a:pt x="5031" y="1090"/>
                </a:cubicBezTo>
                <a:cubicBezTo>
                  <a:pt x="5251" y="1313"/>
                  <a:pt x="5360" y="1583"/>
                  <a:pt x="5360" y="1899"/>
                </a:cubicBezTo>
                <a:cubicBezTo>
                  <a:pt x="5360" y="2215"/>
                  <a:pt x="5251" y="2485"/>
                  <a:pt x="5031" y="2708"/>
                </a:cubicBezTo>
                <a:cubicBezTo>
                  <a:pt x="4811" y="2930"/>
                  <a:pt x="4546" y="3042"/>
                  <a:pt x="4234" y="3042"/>
                </a:cubicBezTo>
                <a:cubicBezTo>
                  <a:pt x="3922" y="3042"/>
                  <a:pt x="3656" y="2930"/>
                  <a:pt x="3436" y="2708"/>
                </a:cubicBezTo>
                <a:cubicBezTo>
                  <a:pt x="3228" y="2485"/>
                  <a:pt x="3124" y="2215"/>
                  <a:pt x="3124" y="1899"/>
                </a:cubicBezTo>
                <a:cubicBezTo>
                  <a:pt x="3124" y="1583"/>
                  <a:pt x="3228" y="1313"/>
                  <a:pt x="3436" y="1090"/>
                </a:cubicBezTo>
                <a:cubicBezTo>
                  <a:pt x="3656" y="868"/>
                  <a:pt x="3922" y="756"/>
                  <a:pt x="4234" y="756"/>
                </a:cubicBezTo>
                <a:close/>
                <a:moveTo>
                  <a:pt x="0" y="0"/>
                </a:moveTo>
                <a:cubicBezTo>
                  <a:pt x="167" y="0"/>
                  <a:pt x="335" y="0"/>
                  <a:pt x="502" y="0"/>
                </a:cubicBezTo>
                <a:cubicBezTo>
                  <a:pt x="814" y="452"/>
                  <a:pt x="1126" y="903"/>
                  <a:pt x="1438" y="1354"/>
                </a:cubicBezTo>
                <a:cubicBezTo>
                  <a:pt x="1750" y="903"/>
                  <a:pt x="2062" y="452"/>
                  <a:pt x="2374" y="0"/>
                </a:cubicBezTo>
                <a:cubicBezTo>
                  <a:pt x="2542" y="0"/>
                  <a:pt x="2710" y="0"/>
                  <a:pt x="2877" y="0"/>
                </a:cubicBezTo>
                <a:cubicBezTo>
                  <a:pt x="2467" y="592"/>
                  <a:pt x="2057" y="1184"/>
                  <a:pt x="1646" y="1776"/>
                </a:cubicBezTo>
                <a:cubicBezTo>
                  <a:pt x="1646" y="2169"/>
                  <a:pt x="1646" y="2561"/>
                  <a:pt x="1646" y="2954"/>
                </a:cubicBezTo>
                <a:cubicBezTo>
                  <a:pt x="1508" y="2954"/>
                  <a:pt x="1369" y="2954"/>
                  <a:pt x="1230" y="2954"/>
                </a:cubicBezTo>
                <a:cubicBezTo>
                  <a:pt x="1230" y="2561"/>
                  <a:pt x="1230" y="2169"/>
                  <a:pt x="1230" y="1776"/>
                </a:cubicBezTo>
                <a:cubicBezTo>
                  <a:pt x="820" y="1184"/>
                  <a:pt x="410" y="592"/>
                  <a:pt x="0" y="0"/>
                </a:cubicBezTo>
                <a:close/>
              </a:path>
            </a:pathLst>
          </a:custGeom>
          <a:solidFill>
            <a:srgbClr val="d1f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圆角矩形 2"/>
          <p:cNvSpPr/>
          <p:nvPr/>
        </p:nvSpPr>
        <p:spPr>
          <a:xfrm flipH="1">
            <a:off x="4655520" y="2278080"/>
            <a:ext cx="2979720" cy="712800"/>
          </a:xfrm>
          <a:prstGeom prst="roundRect">
            <a:avLst>
              <a:gd name="adj" fmla="val 23972"/>
            </a:avLst>
          </a:prstGeom>
          <a:solidFill>
            <a:srgbClr val="def4fa"/>
          </a:solidFill>
          <a:ln w="0">
            <a:noFill/>
          </a:ln>
          <a:effectLst>
            <a:outerShdw dist="38160" dir="5400000" blurRad="0" rotWithShape="0">
              <a:srgbClr val="bfbfbf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e9dc0"/>
                </a:solidFill>
                <a:latin typeface="微软雅黑"/>
                <a:ea typeface="微软雅黑"/>
              </a:rPr>
              <a:t>项目背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任意多边形 3"/>
          <p:cNvSpPr/>
          <p:nvPr/>
        </p:nvSpPr>
        <p:spPr>
          <a:xfrm flipH="1">
            <a:off x="4017240" y="2252520"/>
            <a:ext cx="1020600" cy="747720"/>
          </a:xfrm>
          <a:prstGeom prst="pie">
            <a:avLst/>
          </a:prstGeom>
          <a:solidFill>
            <a:srgbClr val="21afd7"/>
          </a:solidFill>
          <a:ln w="25560">
            <a:solidFill>
              <a:srgbClr val="ffffff"/>
            </a:solidFill>
            <a:miter/>
          </a:ln>
          <a:effectLst>
            <a:outerShdw dist="38160" dir="0" blurRad="0" rotWithShape="0">
              <a:srgbClr val="7f7f7f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18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圆角矩形 7"/>
          <p:cNvSpPr/>
          <p:nvPr/>
        </p:nvSpPr>
        <p:spPr>
          <a:xfrm>
            <a:off x="4656240" y="3214800"/>
            <a:ext cx="2979720" cy="712800"/>
          </a:xfrm>
          <a:prstGeom prst="roundRect">
            <a:avLst>
              <a:gd name="adj" fmla="val 23972"/>
            </a:avLst>
          </a:prstGeom>
          <a:solidFill>
            <a:srgbClr val="def4fa"/>
          </a:solidFill>
          <a:ln w="0">
            <a:noFill/>
          </a:ln>
          <a:effectLst>
            <a:outerShdw dist="38160" dir="5400000" blurRad="0" rotWithShape="0">
              <a:srgbClr val="bfbfbf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252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e9dc0"/>
                </a:solidFill>
                <a:latin typeface="微软雅黑"/>
                <a:ea typeface="微软雅黑"/>
              </a:rPr>
              <a:t>目标客户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任意多边形 8"/>
          <p:cNvSpPr/>
          <p:nvPr/>
        </p:nvSpPr>
        <p:spPr>
          <a:xfrm>
            <a:off x="7153200" y="3178080"/>
            <a:ext cx="1020960" cy="747720"/>
          </a:xfrm>
          <a:prstGeom prst="pie">
            <a:avLst/>
          </a:prstGeom>
          <a:solidFill>
            <a:srgbClr val="21afd7"/>
          </a:solidFill>
          <a:ln w="25560">
            <a:solidFill>
              <a:srgbClr val="ffffff"/>
            </a:solidFill>
            <a:miter/>
          </a:ln>
          <a:effectLst>
            <a:outerShdw dist="38160" dir="10800000" blurRad="0" rotWithShape="0">
              <a:srgbClr val="7f7f7f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圆角矩形 16"/>
          <p:cNvSpPr/>
          <p:nvPr/>
        </p:nvSpPr>
        <p:spPr>
          <a:xfrm flipH="1">
            <a:off x="4726800" y="4078440"/>
            <a:ext cx="2979720" cy="712800"/>
          </a:xfrm>
          <a:prstGeom prst="roundRect">
            <a:avLst>
              <a:gd name="adj" fmla="val 23972"/>
            </a:avLst>
          </a:prstGeom>
          <a:solidFill>
            <a:srgbClr val="def4fa"/>
          </a:solidFill>
          <a:ln w="0">
            <a:noFill/>
          </a:ln>
          <a:effectLst>
            <a:outerShdw dist="38160" dir="5400000" blurRad="0" rotWithShape="0">
              <a:srgbClr val="bfbfbf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e9dc0"/>
                </a:solidFill>
                <a:latin typeface="微软雅黑"/>
                <a:ea typeface="微软雅黑"/>
              </a:rPr>
              <a:t>产品应运而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任意多边形 17"/>
          <p:cNvSpPr/>
          <p:nvPr/>
        </p:nvSpPr>
        <p:spPr>
          <a:xfrm flipH="1">
            <a:off x="4017240" y="4103640"/>
            <a:ext cx="1020600" cy="747720"/>
          </a:xfrm>
          <a:prstGeom prst="pie">
            <a:avLst/>
          </a:prstGeom>
          <a:solidFill>
            <a:srgbClr val="21afd7"/>
          </a:solidFill>
          <a:ln w="25560">
            <a:solidFill>
              <a:srgbClr val="ffffff"/>
            </a:solidFill>
            <a:miter/>
          </a:ln>
          <a:effectLst>
            <a:outerShdw dist="38160" dir="0" blurRad="0" rotWithShape="0">
              <a:srgbClr val="7f7f7f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18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圆角矩形 19"/>
          <p:cNvSpPr/>
          <p:nvPr/>
        </p:nvSpPr>
        <p:spPr>
          <a:xfrm>
            <a:off x="4656240" y="5014800"/>
            <a:ext cx="2979720" cy="711360"/>
          </a:xfrm>
          <a:prstGeom prst="roundRect">
            <a:avLst>
              <a:gd name="adj" fmla="val 23972"/>
            </a:avLst>
          </a:prstGeom>
          <a:solidFill>
            <a:srgbClr val="def4fa"/>
          </a:solidFill>
          <a:ln w="0">
            <a:noFill/>
          </a:ln>
          <a:effectLst>
            <a:outerShdw dist="38160" dir="5400000" blurRad="0" rotWithShape="0">
              <a:srgbClr val="bfbfbf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252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e9dc0"/>
                </a:solidFill>
                <a:latin typeface="微软雅黑"/>
                <a:ea typeface="微软雅黑"/>
              </a:rPr>
              <a:t>市场价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任意多边形 20"/>
          <p:cNvSpPr/>
          <p:nvPr/>
        </p:nvSpPr>
        <p:spPr>
          <a:xfrm>
            <a:off x="7153200" y="5029200"/>
            <a:ext cx="1020960" cy="747720"/>
          </a:xfrm>
          <a:prstGeom prst="pie">
            <a:avLst/>
          </a:prstGeom>
          <a:solidFill>
            <a:srgbClr val="21afd7"/>
          </a:solidFill>
          <a:ln w="25560">
            <a:solidFill>
              <a:srgbClr val="ffffff"/>
            </a:solidFill>
            <a:miter/>
          </a:ln>
          <a:effectLst>
            <a:outerShdw dist="38160" dir="10800000" blurRad="0" rotWithShape="0">
              <a:srgbClr val="7f7f7f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10"/>
          <p:cNvSpPr/>
          <p:nvPr/>
        </p:nvSpPr>
        <p:spPr>
          <a:xfrm>
            <a:off x="5013000" y="1398600"/>
            <a:ext cx="207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dd"/>
                </a:solidFill>
                <a:latin typeface="微软雅黑"/>
                <a:ea typeface="微软雅黑"/>
              </a:rPr>
              <a:t>Table of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1"/>
          <p:cNvSpPr/>
          <p:nvPr/>
        </p:nvSpPr>
        <p:spPr>
          <a:xfrm>
            <a:off x="5038560" y="932040"/>
            <a:ext cx="202104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1afd7"/>
                </a:solidFill>
                <a:latin typeface="微软雅黑"/>
                <a:ea typeface="微软雅黑"/>
              </a:rPr>
              <a:t>内容大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101160"/>
            <a:ext cx="1052676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43537"/>
                </a:solidFill>
                <a:latin typeface="Arial Black"/>
              </a:rPr>
              <a:t>一、项目背景</a:t>
            </a:r>
            <a:endParaRPr b="1" lang="en-US" sz="2800" spc="-1" strike="noStrike">
              <a:solidFill>
                <a:srgbClr val="343537"/>
              </a:solidFill>
              <a:latin typeface="Arial Black"/>
            </a:endParaRPr>
          </a:p>
        </p:txBody>
      </p:sp>
      <p:pic>
        <p:nvPicPr>
          <p:cNvPr id="157" name="Picture 3" descr="rubrfb14624b_副本"/>
          <p:cNvPicPr/>
          <p:nvPr/>
        </p:nvPicPr>
        <p:blipFill>
          <a:blip r:embed="rId1"/>
          <a:stretch/>
        </p:blipFill>
        <p:spPr>
          <a:xfrm>
            <a:off x="1127160" y="1698480"/>
            <a:ext cx="5397480" cy="3600720"/>
          </a:xfrm>
          <a:prstGeom prst="rect">
            <a:avLst/>
          </a:prstGeom>
          <a:ln w="180000">
            <a:solidFill>
              <a:srgbClr val="3d3f41"/>
            </a:solidFill>
            <a:miter/>
          </a:ln>
        </p:spPr>
      </p:pic>
      <p:sp>
        <p:nvSpPr>
          <p:cNvPr id="158" name="Text Box 4"/>
          <p:cNvSpPr/>
          <p:nvPr/>
        </p:nvSpPr>
        <p:spPr>
          <a:xfrm>
            <a:off x="1055520" y="55879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超市排队结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3689855469700294847_副本"/>
          <p:cNvPicPr/>
          <p:nvPr/>
        </p:nvPicPr>
        <p:blipFill>
          <a:blip r:embed="rId2"/>
          <a:stretch/>
        </p:blipFill>
        <p:spPr>
          <a:xfrm>
            <a:off x="3287880" y="1698480"/>
            <a:ext cx="5688000" cy="3600720"/>
          </a:xfrm>
          <a:prstGeom prst="rect">
            <a:avLst/>
          </a:prstGeom>
          <a:ln w="180000">
            <a:solidFill>
              <a:srgbClr val="3d3f41"/>
            </a:solidFill>
            <a:miter/>
          </a:ln>
        </p:spPr>
      </p:pic>
      <p:sp>
        <p:nvSpPr>
          <p:cNvPr id="160" name="Text Box 6"/>
          <p:cNvSpPr/>
          <p:nvPr/>
        </p:nvSpPr>
        <p:spPr>
          <a:xfrm>
            <a:off x="3359160" y="55879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停车场排队刷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7" descr="QQ截图20150827160638"/>
          <p:cNvPicPr/>
          <p:nvPr/>
        </p:nvPicPr>
        <p:blipFill>
          <a:blip r:embed="rId3"/>
          <a:stretch/>
        </p:blipFill>
        <p:spPr>
          <a:xfrm>
            <a:off x="6600960" y="1698480"/>
            <a:ext cx="4327560" cy="3600720"/>
          </a:xfrm>
          <a:prstGeom prst="rect">
            <a:avLst/>
          </a:prstGeom>
          <a:ln w="180000">
            <a:solidFill>
              <a:srgbClr val="3d3f41"/>
            </a:solidFill>
            <a:miter/>
          </a:ln>
        </p:spPr>
      </p:pic>
      <p:sp>
        <p:nvSpPr>
          <p:cNvPr id="162" name="Text Box 8"/>
          <p:cNvSpPr/>
          <p:nvPr/>
        </p:nvSpPr>
        <p:spPr>
          <a:xfrm>
            <a:off x="6600960" y="558792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医院看病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9"/>
          <p:cNvGrpSpPr/>
          <p:nvPr/>
        </p:nvGrpSpPr>
        <p:grpSpPr>
          <a:xfrm>
            <a:off x="3719520" y="2854440"/>
            <a:ext cx="4248000" cy="1726920"/>
            <a:chOff x="3719520" y="2854440"/>
            <a:chExt cx="4248000" cy="1726920"/>
          </a:xfrm>
        </p:grpSpPr>
        <p:sp>
          <p:nvSpPr>
            <p:cNvPr id="164" name="圆角矩形3 386"/>
            <p:cNvSpPr/>
            <p:nvPr/>
          </p:nvSpPr>
          <p:spPr>
            <a:xfrm>
              <a:off x="3719520" y="2854440"/>
              <a:ext cx="4248000" cy="172692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70000"/>
              </a:srgbClr>
            </a:solidFill>
            <a:ln w="9360">
              <a:solidFill>
                <a:srgbClr val="3d3f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11"/>
            <p:cNvSpPr/>
            <p:nvPr/>
          </p:nvSpPr>
          <p:spPr>
            <a:xfrm>
              <a:off x="4007520" y="2997720"/>
              <a:ext cx="3744360" cy="14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向排队说</a:t>
              </a:r>
              <a:r>
                <a:rPr b="1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NO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我的消费我做主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Group 2"/>
          <p:cNvGrpSpPr/>
          <p:nvPr/>
        </p:nvGrpSpPr>
        <p:grpSpPr>
          <a:xfrm>
            <a:off x="1704960" y="1125360"/>
            <a:ext cx="8856720" cy="3940200"/>
            <a:chOff x="1704960" y="1125360"/>
            <a:chExt cx="8856720" cy="3940200"/>
          </a:xfrm>
        </p:grpSpPr>
        <p:grpSp>
          <p:nvGrpSpPr>
            <p:cNvPr id="167" name="Group 3"/>
            <p:cNvGrpSpPr/>
            <p:nvPr/>
          </p:nvGrpSpPr>
          <p:grpSpPr>
            <a:xfrm>
              <a:off x="1704960" y="1125360"/>
              <a:ext cx="8856720" cy="3940200"/>
              <a:chOff x="1704960" y="1125360"/>
              <a:chExt cx="8856720" cy="3940200"/>
            </a:xfrm>
          </p:grpSpPr>
          <p:pic>
            <p:nvPicPr>
              <p:cNvPr id="168" name="Pictur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1704960" y="1125360"/>
                <a:ext cx="8856720" cy="3940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9" name="圆角矩形3 174"/>
              <p:cNvSpPr/>
              <p:nvPr/>
            </p:nvSpPr>
            <p:spPr>
              <a:xfrm>
                <a:off x="4367880" y="1197000"/>
                <a:ext cx="3744360" cy="3610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Text Box 6"/>
            <p:cNvSpPr/>
            <p:nvPr/>
          </p:nvSpPr>
          <p:spPr>
            <a:xfrm>
              <a:off x="4584600" y="1197720"/>
              <a:ext cx="360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新宋体"/>
                  <a:ea typeface="新宋体"/>
                </a:rPr>
                <a:t>  </a:t>
              </a:r>
              <a:r>
                <a:rPr b="1" lang="zh-CN" sz="1600" spc="-1" strike="noStrike">
                  <a:solidFill>
                    <a:srgbClr val="000000"/>
                  </a:solidFill>
                  <a:latin typeface="新宋体"/>
                  <a:ea typeface="新宋体"/>
                </a:rPr>
                <a:t>超市</a:t>
              </a:r>
              <a:r>
                <a:rPr b="1" lang="zh-CN" sz="1600" spc="-1" strike="noStrike">
                  <a:solidFill>
                    <a:srgbClr val="000000"/>
                  </a:solidFill>
                  <a:latin typeface="新宋体"/>
                  <a:ea typeface="新宋体"/>
                </a:rPr>
                <a:t>4-6</a:t>
              </a:r>
              <a:r>
                <a:rPr b="1" lang="zh-CN" sz="1600" spc="-1" strike="noStrike">
                  <a:solidFill>
                    <a:srgbClr val="000000"/>
                  </a:solidFill>
                  <a:latin typeface="新宋体"/>
                  <a:ea typeface="新宋体"/>
                </a:rPr>
                <a:t>月周末客流量分布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101160"/>
            <a:ext cx="1052676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43537"/>
                </a:solidFill>
                <a:latin typeface="Arial Black"/>
              </a:rPr>
              <a:t>二、目标客户分析</a:t>
            </a:r>
            <a:endParaRPr b="1" lang="en-US" sz="2800" spc="-1" strike="noStrike">
              <a:solidFill>
                <a:srgbClr val="343537"/>
              </a:solidFill>
              <a:latin typeface="Arial Black"/>
            </a:endParaRPr>
          </a:p>
        </p:txBody>
      </p:sp>
      <p:grpSp>
        <p:nvGrpSpPr>
          <p:cNvPr id="172" name="Group 8"/>
          <p:cNvGrpSpPr/>
          <p:nvPr/>
        </p:nvGrpSpPr>
        <p:grpSpPr>
          <a:xfrm>
            <a:off x="1704960" y="1628640"/>
            <a:ext cx="8856720" cy="3943440"/>
            <a:chOff x="1704960" y="1628640"/>
            <a:chExt cx="8856720" cy="3943440"/>
          </a:xfrm>
        </p:grpSpPr>
        <p:pic>
          <p:nvPicPr>
            <p:cNvPr id="173" name="Picture 9" descr=""/>
            <p:cNvPicPr/>
            <p:nvPr/>
          </p:nvPicPr>
          <p:blipFill>
            <a:blip r:embed="rId2"/>
            <a:stretch/>
          </p:blipFill>
          <p:spPr>
            <a:xfrm>
              <a:off x="1704960" y="1628640"/>
              <a:ext cx="8856720" cy="394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圆角矩形3 182"/>
            <p:cNvSpPr/>
            <p:nvPr/>
          </p:nvSpPr>
          <p:spPr>
            <a:xfrm>
              <a:off x="4295520" y="1701000"/>
              <a:ext cx="3600360" cy="360000"/>
            </a:xfrm>
            <a:prstGeom prst="roundRect">
              <a:avLst>
                <a:gd name="adj" fmla="val 16667"/>
              </a:avLst>
            </a:prstGeom>
            <a:solidFill>
              <a:srgbClr val="eb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11"/>
            <p:cNvSpPr/>
            <p:nvPr/>
          </p:nvSpPr>
          <p:spPr>
            <a:xfrm>
              <a:off x="4669560" y="1679400"/>
              <a:ext cx="351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f384e"/>
                  </a:solidFill>
                  <a:latin typeface="新宋体"/>
                  <a:ea typeface="新宋体"/>
                </a:rPr>
                <a:t>超市</a:t>
              </a:r>
              <a:r>
                <a:rPr b="1" lang="zh-CN" sz="1600" spc="-1" strike="noStrike">
                  <a:solidFill>
                    <a:srgbClr val="2f384e"/>
                  </a:solidFill>
                  <a:latin typeface="新宋体"/>
                  <a:ea typeface="新宋体"/>
                </a:rPr>
                <a:t>4-6</a:t>
              </a:r>
              <a:r>
                <a:rPr b="1" lang="zh-CN" sz="1600" spc="-1" strike="noStrike">
                  <a:solidFill>
                    <a:srgbClr val="2f384e"/>
                  </a:solidFill>
                  <a:latin typeface="新宋体"/>
                  <a:ea typeface="新宋体"/>
                </a:rPr>
                <a:t>月工作日客流量分布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6" name="Picture 12" descr=""/>
          <p:cNvPicPr/>
          <p:nvPr/>
        </p:nvPicPr>
        <p:blipFill>
          <a:blip r:embed="rId3"/>
          <a:stretch/>
        </p:blipFill>
        <p:spPr>
          <a:xfrm>
            <a:off x="1703520" y="2060640"/>
            <a:ext cx="8856360" cy="39528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3" descr="QQ截图20150827165234"/>
          <p:cNvPicPr/>
          <p:nvPr/>
        </p:nvPicPr>
        <p:blipFill>
          <a:blip r:embed="rId4"/>
          <a:stretch/>
        </p:blipFill>
        <p:spPr>
          <a:xfrm>
            <a:off x="1127160" y="2494080"/>
            <a:ext cx="9975960" cy="35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101160"/>
            <a:ext cx="1052676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43537"/>
                </a:solidFill>
                <a:latin typeface="Arial Black"/>
              </a:rPr>
              <a:t>三、“扫扫付”产品</a:t>
            </a:r>
            <a:endParaRPr b="1" lang="en-US" sz="2800" spc="-1" strike="noStrike">
              <a:solidFill>
                <a:srgbClr val="343537"/>
              </a:solidFill>
              <a:latin typeface="Arial Black"/>
            </a:endParaRPr>
          </a:p>
        </p:txBody>
      </p:sp>
      <p:pic>
        <p:nvPicPr>
          <p:cNvPr id="179" name="Picture 3" descr="15"/>
          <p:cNvPicPr/>
          <p:nvPr/>
        </p:nvPicPr>
        <p:blipFill>
          <a:blip r:embed="rId1"/>
          <a:stretch/>
        </p:blipFill>
        <p:spPr>
          <a:xfrm>
            <a:off x="1501920" y="1486080"/>
            <a:ext cx="1895400" cy="37717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"/>
          <p:cNvPicPr/>
          <p:nvPr/>
        </p:nvPicPr>
        <p:blipFill>
          <a:blip r:embed="rId2"/>
          <a:stretch/>
        </p:blipFill>
        <p:spPr>
          <a:xfrm>
            <a:off x="2222640" y="2781360"/>
            <a:ext cx="447480" cy="43344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5"/>
          <p:cNvSpPr/>
          <p:nvPr/>
        </p:nvSpPr>
        <p:spPr>
          <a:xfrm>
            <a:off x="2063880" y="3429000"/>
            <a:ext cx="787320" cy="307800"/>
          </a:xfrm>
          <a:prstGeom prst="rect">
            <a:avLst/>
          </a:prstGeom>
          <a:solidFill>
            <a:srgbClr val="358cc1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扫扫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6"/>
          <p:cNvGrpSpPr/>
          <p:nvPr/>
        </p:nvGrpSpPr>
        <p:grpSpPr>
          <a:xfrm>
            <a:off x="3936960" y="1486080"/>
            <a:ext cx="1886040" cy="3762360"/>
            <a:chOff x="3936960" y="1486080"/>
            <a:chExt cx="1886040" cy="3762360"/>
          </a:xfrm>
        </p:grpSpPr>
        <p:pic>
          <p:nvPicPr>
            <p:cNvPr id="183" name="Picture 7" descr="16"/>
            <p:cNvPicPr/>
            <p:nvPr/>
          </p:nvPicPr>
          <p:blipFill>
            <a:blip r:embed="rId3"/>
            <a:stretch/>
          </p:blipFill>
          <p:spPr>
            <a:xfrm>
              <a:off x="3936960" y="1486080"/>
              <a:ext cx="1886040" cy="376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Picture 8" descr=""/>
            <p:cNvPicPr/>
            <p:nvPr/>
          </p:nvPicPr>
          <p:blipFill>
            <a:blip r:embed="rId4"/>
            <a:stretch/>
          </p:blipFill>
          <p:spPr>
            <a:xfrm>
              <a:off x="4009320" y="2062440"/>
              <a:ext cx="1739160" cy="270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5" name="Group 9"/>
          <p:cNvGrpSpPr/>
          <p:nvPr/>
        </p:nvGrpSpPr>
        <p:grpSpPr>
          <a:xfrm>
            <a:off x="8832960" y="1413000"/>
            <a:ext cx="1885680" cy="3763800"/>
            <a:chOff x="8832960" y="1413000"/>
            <a:chExt cx="1885680" cy="3763800"/>
          </a:xfrm>
        </p:grpSpPr>
        <p:pic>
          <p:nvPicPr>
            <p:cNvPr id="186" name="Picture 10" descr="16"/>
            <p:cNvPicPr/>
            <p:nvPr/>
          </p:nvPicPr>
          <p:blipFill>
            <a:blip r:embed="rId5"/>
            <a:stretch/>
          </p:blipFill>
          <p:spPr>
            <a:xfrm>
              <a:off x="8832960" y="1413000"/>
              <a:ext cx="1885680" cy="376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圆角矩形3 182"/>
            <p:cNvSpPr/>
            <p:nvPr/>
          </p:nvSpPr>
          <p:spPr>
            <a:xfrm>
              <a:off x="9048600" y="2637360"/>
              <a:ext cx="1512360" cy="1080360"/>
            </a:xfrm>
            <a:prstGeom prst="roundRect">
              <a:avLst>
                <a:gd name="adj" fmla="val 16667"/>
              </a:avLst>
            </a:prstGeom>
            <a:solidFill>
              <a:srgbClr val="3d3f41">
                <a:alpha val="50000"/>
              </a:srgbClr>
            </a:solidFill>
            <a:ln w="9360">
              <a:solidFill>
                <a:srgbClr val="3d3f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12"/>
            <p:cNvSpPr/>
            <p:nvPr/>
          </p:nvSpPr>
          <p:spPr>
            <a:xfrm>
              <a:off x="9120960" y="2997000"/>
              <a:ext cx="151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e51803"/>
                  </a:solidFill>
                  <a:latin typeface="Arial"/>
                  <a:ea typeface="微软雅黑"/>
                </a:rPr>
                <a:t>支付成功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13"/>
          <p:cNvGrpSpPr/>
          <p:nvPr/>
        </p:nvGrpSpPr>
        <p:grpSpPr>
          <a:xfrm>
            <a:off x="6384960" y="1486080"/>
            <a:ext cx="1886040" cy="3760560"/>
            <a:chOff x="6384960" y="1486080"/>
            <a:chExt cx="1886040" cy="3760560"/>
          </a:xfrm>
        </p:grpSpPr>
        <p:grpSp>
          <p:nvGrpSpPr>
            <p:cNvPr id="190" name="Group 14"/>
            <p:cNvGrpSpPr/>
            <p:nvPr/>
          </p:nvGrpSpPr>
          <p:grpSpPr>
            <a:xfrm>
              <a:off x="6384960" y="1486080"/>
              <a:ext cx="1886040" cy="3760560"/>
              <a:chOff x="6384960" y="1486080"/>
              <a:chExt cx="1886040" cy="3760560"/>
            </a:xfrm>
          </p:grpSpPr>
          <p:pic>
            <p:nvPicPr>
              <p:cNvPr id="191" name="Picture 15" descr="16"/>
              <p:cNvPicPr/>
              <p:nvPr/>
            </p:nvPicPr>
            <p:blipFill>
              <a:blip r:embed="rId6"/>
              <a:stretch/>
            </p:blipFill>
            <p:spPr>
              <a:xfrm>
                <a:off x="6384960" y="1486080"/>
                <a:ext cx="1886040" cy="3760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2" name="Text Box 16"/>
              <p:cNvSpPr/>
              <p:nvPr/>
            </p:nvSpPr>
            <p:spPr>
              <a:xfrm>
                <a:off x="6528960" y="2133720"/>
                <a:ext cx="1584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电子账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17"/>
              <p:cNvSpPr/>
              <p:nvPr/>
            </p:nvSpPr>
            <p:spPr>
              <a:xfrm>
                <a:off x="6557400" y="2507760"/>
                <a:ext cx="1555920" cy="9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Arial"/>
                  </a:rPr>
                  <a:t>XXXXX         36.0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Arial"/>
                  </a:rPr>
                  <a:t>XXXXXXX    69.0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Arial"/>
                  </a:rPr>
                  <a:t>XXXX           14.0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Arial"/>
                  </a:rPr>
                  <a:t>XX                58.0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圆角矩形3 176"/>
              <p:cNvSpPr/>
              <p:nvPr/>
            </p:nvSpPr>
            <p:spPr>
              <a:xfrm>
                <a:off x="6961320" y="4149360"/>
                <a:ext cx="720720" cy="3582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1aaa1a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3d3f4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19"/>
              <p:cNvSpPr/>
              <p:nvPr/>
            </p:nvSpPr>
            <p:spPr>
              <a:xfrm>
                <a:off x="7033320" y="4148640"/>
                <a:ext cx="720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付款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6" name="Picture 20" descr=""/>
            <p:cNvPicPr/>
            <p:nvPr/>
          </p:nvPicPr>
          <p:blipFill>
            <a:blip r:embed="rId7"/>
            <a:stretch/>
          </p:blipFill>
          <p:spPr>
            <a:xfrm>
              <a:off x="7970040" y="2566080"/>
              <a:ext cx="151560" cy="14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21" descr=""/>
            <p:cNvPicPr/>
            <p:nvPr/>
          </p:nvPicPr>
          <p:blipFill>
            <a:blip r:embed="rId8"/>
            <a:stretch/>
          </p:blipFill>
          <p:spPr>
            <a:xfrm>
              <a:off x="7969320" y="2781360"/>
              <a:ext cx="151560" cy="14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22" descr=""/>
            <p:cNvPicPr/>
            <p:nvPr/>
          </p:nvPicPr>
          <p:blipFill>
            <a:blip r:embed="rId9"/>
            <a:stretch/>
          </p:blipFill>
          <p:spPr>
            <a:xfrm>
              <a:off x="7969320" y="2997720"/>
              <a:ext cx="151560" cy="14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Picture 23" descr=""/>
            <p:cNvPicPr/>
            <p:nvPr/>
          </p:nvPicPr>
          <p:blipFill>
            <a:blip r:embed="rId10"/>
            <a:stretch/>
          </p:blipFill>
          <p:spPr>
            <a:xfrm>
              <a:off x="7969320" y="3213720"/>
              <a:ext cx="151560" cy="144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" dur="500" fill="hold"/>
                                        <p:tgtEl>
                                          <p:spTgt spid="1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101160"/>
            <a:ext cx="1052676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43537"/>
                </a:solidFill>
                <a:latin typeface="Arial Black"/>
              </a:rPr>
              <a:t>四、市场价值</a:t>
            </a:r>
            <a:endParaRPr b="1" lang="en-US" sz="2800" spc="-1" strike="noStrike">
              <a:solidFill>
                <a:srgbClr val="343537"/>
              </a:solidFill>
              <a:latin typeface="Arial Black"/>
            </a:endParaRPr>
          </a:p>
        </p:txBody>
      </p:sp>
      <p:grpSp>
        <p:nvGrpSpPr>
          <p:cNvPr id="201" name="Group 3"/>
          <p:cNvGrpSpPr/>
          <p:nvPr/>
        </p:nvGrpSpPr>
        <p:grpSpPr>
          <a:xfrm>
            <a:off x="911160" y="1197000"/>
            <a:ext cx="2342880" cy="1501560"/>
            <a:chOff x="911160" y="1197000"/>
            <a:chExt cx="2342880" cy="1501560"/>
          </a:xfrm>
        </p:grpSpPr>
        <p:grpSp>
          <p:nvGrpSpPr>
            <p:cNvPr id="202" name="Group 4"/>
            <p:cNvGrpSpPr/>
            <p:nvPr/>
          </p:nvGrpSpPr>
          <p:grpSpPr>
            <a:xfrm>
              <a:off x="911160" y="1197000"/>
              <a:ext cx="2160720" cy="1501560"/>
              <a:chOff x="911160" y="1197000"/>
              <a:chExt cx="2160720" cy="1501560"/>
            </a:xfrm>
          </p:grpSpPr>
          <p:sp>
            <p:nvSpPr>
              <p:cNvPr id="203" name="Freeform 9"/>
              <p:cNvSpPr/>
              <p:nvPr/>
            </p:nvSpPr>
            <p:spPr>
              <a:xfrm>
                <a:off x="911160" y="1197000"/>
                <a:ext cx="2134080" cy="883080"/>
              </a:xfrm>
              <a:custGeom>
                <a:avLst/>
                <a:gdLst>
                  <a:gd name="textAreaLeft" fmla="*/ 0 w 2134080"/>
                  <a:gd name="textAreaRight" fmla="*/ 2134440 w 2134080"/>
                  <a:gd name="textAreaTop" fmla="*/ 0 h 883080"/>
                  <a:gd name="textAreaBottom" fmla="*/ 883440 h 883080"/>
                </a:gdLst>
                <a:ahLst/>
                <a:rect l="textAreaLeft" t="textAreaTop" r="textAreaRight" b="textAreaBottom"/>
                <a:pathLst>
                  <a:path w="906" h="391">
                    <a:moveTo>
                      <a:pt x="453" y="0"/>
                    </a:moveTo>
                    <a:lnTo>
                      <a:pt x="0" y="194"/>
                    </a:lnTo>
                    <a:lnTo>
                      <a:pt x="453" y="391"/>
                    </a:lnTo>
                    <a:lnTo>
                      <a:pt x="906" y="194"/>
                    </a:lnTo>
                    <a:lnTo>
                      <a:pt x="453" y="0"/>
                    </a:lnTo>
                    <a:close/>
                  </a:path>
                </a:pathLst>
              </a:custGeom>
              <a:solidFill>
                <a:srgbClr val="e9f5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6"/>
              <p:cNvSpPr/>
              <p:nvPr/>
            </p:nvSpPr>
            <p:spPr>
              <a:xfrm>
                <a:off x="2006280" y="1626480"/>
                <a:ext cx="1065600" cy="1072080"/>
              </a:xfrm>
              <a:custGeom>
                <a:avLst/>
                <a:gdLst>
                  <a:gd name="textAreaLeft" fmla="*/ 0 w 1065600"/>
                  <a:gd name="textAreaRight" fmla="*/ 1065960 w 1065600"/>
                  <a:gd name="textAreaTop" fmla="*/ 0 h 1072080"/>
                  <a:gd name="textAreaBottom" fmla="*/ 1072440 h 1072080"/>
                </a:gdLst>
                <a:ahLst/>
                <a:rect l="textAreaLeft" t="textAreaTop" r="textAreaRight" b="textAreaBottom"/>
                <a:pathLst>
                  <a:path w="453" h="474">
                    <a:moveTo>
                      <a:pt x="453" y="0"/>
                    </a:moveTo>
                    <a:lnTo>
                      <a:pt x="0" y="197"/>
                    </a:lnTo>
                    <a:lnTo>
                      <a:pt x="0" y="474"/>
                    </a:lnTo>
                    <a:lnTo>
                      <a:pt x="453" y="277"/>
                    </a:lnTo>
                    <a:lnTo>
                      <a:pt x="453" y="0"/>
                    </a:lnTo>
                    <a:close/>
                  </a:path>
                </a:pathLst>
              </a:custGeom>
              <a:solidFill>
                <a:srgbClr val="2aa1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7"/>
              <p:cNvSpPr/>
              <p:nvPr/>
            </p:nvSpPr>
            <p:spPr>
              <a:xfrm>
                <a:off x="938160" y="1626480"/>
                <a:ext cx="1068120" cy="1072080"/>
              </a:xfrm>
              <a:custGeom>
                <a:avLst/>
                <a:gdLst>
                  <a:gd name="textAreaLeft" fmla="*/ 0 w 1068120"/>
                  <a:gd name="textAreaRight" fmla="*/ 1068480 w 1068120"/>
                  <a:gd name="textAreaTop" fmla="*/ 0 h 1072080"/>
                  <a:gd name="textAreaBottom" fmla="*/ 1072440 h 1072080"/>
                </a:gdLst>
                <a:ahLst/>
                <a:rect l="textAreaLeft" t="textAreaTop" r="textAreaRight" b="textAreaBottom"/>
                <a:pathLst>
                  <a:path w="453" h="474">
                    <a:moveTo>
                      <a:pt x="0" y="0"/>
                    </a:moveTo>
                    <a:lnTo>
                      <a:pt x="453" y="197"/>
                    </a:lnTo>
                    <a:lnTo>
                      <a:pt x="453" y="474"/>
                    </a:lnTo>
                    <a:lnTo>
                      <a:pt x="0" y="27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bae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41"/>
              <p:cNvSpPr/>
              <p:nvPr/>
            </p:nvSpPr>
            <p:spPr>
              <a:xfrm>
                <a:off x="1206720" y="1901160"/>
                <a:ext cx="431640" cy="519480"/>
              </a:xfrm>
              <a:custGeom>
                <a:avLst/>
                <a:gdLst>
                  <a:gd name="textAreaLeft" fmla="*/ 0 w 431640"/>
                  <a:gd name="textAreaRight" fmla="*/ 432000 w 431640"/>
                  <a:gd name="textAreaTop" fmla="*/ 0 h 519480"/>
                  <a:gd name="textAreaBottom" fmla="*/ 519840 h 519480"/>
                </a:gdLst>
                <a:ahLst/>
                <a:rect l="textAreaLeft" t="textAreaTop" r="textAreaRight" b="textAreaBottom"/>
                <a:pathLst>
                  <a:path w="77" h="97">
                    <a:moveTo>
                      <a:pt x="29" y="81"/>
                    </a:moveTo>
                    <a:cubicBezTo>
                      <a:pt x="28" y="81"/>
                      <a:pt x="26" y="81"/>
                      <a:pt x="25" y="80"/>
                    </a:cubicBezTo>
                    <a:cubicBezTo>
                      <a:pt x="25" y="80"/>
                      <a:pt x="25" y="80"/>
                      <a:pt x="25" y="80"/>
                    </a:cubicBezTo>
                    <a:cubicBezTo>
                      <a:pt x="16" y="76"/>
                      <a:pt x="9" y="61"/>
                      <a:pt x="9" y="46"/>
                    </a:cubicBezTo>
                    <a:cubicBezTo>
                      <a:pt x="10" y="34"/>
                      <a:pt x="15" y="26"/>
                      <a:pt x="22" y="26"/>
                    </a:cubicBezTo>
                    <a:cubicBezTo>
                      <a:pt x="23" y="26"/>
                      <a:pt x="24" y="26"/>
                      <a:pt x="25" y="26"/>
                    </a:cubicBezTo>
                    <a:cubicBezTo>
                      <a:pt x="26" y="27"/>
                      <a:pt x="26" y="27"/>
                      <a:pt x="26" y="27"/>
                    </a:cubicBezTo>
                    <a:cubicBezTo>
                      <a:pt x="34" y="30"/>
                      <a:pt x="41" y="46"/>
                      <a:pt x="41" y="60"/>
                    </a:cubicBezTo>
                    <a:cubicBezTo>
                      <a:pt x="41" y="73"/>
                      <a:pt x="36" y="81"/>
                      <a:pt x="29" y="81"/>
                    </a:cubicBezTo>
                    <a:moveTo>
                      <a:pt x="22" y="9"/>
                    </a:moveTo>
                    <a:cubicBezTo>
                      <a:pt x="22" y="17"/>
                      <a:pt x="22" y="17"/>
                      <a:pt x="22" y="17"/>
                    </a:cubicBezTo>
                    <a:cubicBezTo>
                      <a:pt x="21" y="17"/>
                      <a:pt x="21" y="17"/>
                      <a:pt x="20" y="17"/>
                    </a:cubicBezTo>
                    <a:cubicBezTo>
                      <a:pt x="18" y="17"/>
                      <a:pt x="16" y="18"/>
                      <a:pt x="14" y="19"/>
                    </a:cubicBezTo>
                    <a:cubicBezTo>
                      <a:pt x="11" y="12"/>
                      <a:pt x="11" y="12"/>
                      <a:pt x="11" y="12"/>
                    </a:cubicBezTo>
                    <a:cubicBezTo>
                      <a:pt x="5" y="19"/>
                      <a:pt x="5" y="19"/>
                      <a:pt x="5" y="19"/>
                    </a:cubicBezTo>
                    <a:cubicBezTo>
                      <a:pt x="8" y="26"/>
                      <a:pt x="8" y="26"/>
                      <a:pt x="8" y="26"/>
                    </a:cubicBezTo>
                    <a:cubicBezTo>
                      <a:pt x="7" y="29"/>
                      <a:pt x="6" y="33"/>
                      <a:pt x="5" y="38"/>
                    </a:cubicBezTo>
                    <a:cubicBezTo>
                      <a:pt x="0" y="36"/>
                      <a:pt x="0" y="36"/>
                      <a:pt x="0" y="36"/>
                    </a:cubicBezTo>
                    <a:cubicBezTo>
                      <a:pt x="0" y="49"/>
                      <a:pt x="0" y="49"/>
                      <a:pt x="0" y="49"/>
                    </a:cubicBezTo>
                    <a:cubicBezTo>
                      <a:pt x="5" y="51"/>
                      <a:pt x="5" y="51"/>
                      <a:pt x="5" y="51"/>
                    </a:cubicBezTo>
                    <a:cubicBezTo>
                      <a:pt x="5" y="56"/>
                      <a:pt x="6" y="61"/>
                      <a:pt x="8" y="65"/>
                    </a:cubicBezTo>
                    <a:cubicBezTo>
                      <a:pt x="5" y="70"/>
                      <a:pt x="5" y="70"/>
                      <a:pt x="5" y="70"/>
                    </a:cubicBezTo>
                    <a:cubicBezTo>
                      <a:pt x="10" y="81"/>
                      <a:pt x="10" y="81"/>
                      <a:pt x="10" y="81"/>
                    </a:cubicBezTo>
                    <a:cubicBezTo>
                      <a:pt x="13" y="77"/>
                      <a:pt x="13" y="77"/>
                      <a:pt x="13" y="77"/>
                    </a:cubicBezTo>
                    <a:cubicBezTo>
                      <a:pt x="16" y="81"/>
                      <a:pt x="18" y="84"/>
                      <a:pt x="21" y="86"/>
                    </a:cubicBezTo>
                    <a:cubicBezTo>
                      <a:pt x="21" y="94"/>
                      <a:pt x="21" y="94"/>
                      <a:pt x="21" y="94"/>
                    </a:cubicBezTo>
                    <a:cubicBezTo>
                      <a:pt x="29" y="97"/>
                      <a:pt x="29" y="97"/>
                      <a:pt x="29" y="97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9" y="90"/>
                      <a:pt x="30" y="90"/>
                      <a:pt x="30" y="90"/>
                    </a:cubicBezTo>
                    <a:cubicBezTo>
                      <a:pt x="32" y="90"/>
                      <a:pt x="34" y="89"/>
                      <a:pt x="36" y="87"/>
                    </a:cubicBezTo>
                    <a:cubicBezTo>
                      <a:pt x="40" y="94"/>
                      <a:pt x="40" y="94"/>
                      <a:pt x="40" y="94"/>
                    </a:cubicBezTo>
                    <a:cubicBezTo>
                      <a:pt x="45" y="88"/>
                      <a:pt x="45" y="88"/>
                      <a:pt x="45" y="88"/>
                    </a:cubicBezTo>
                    <a:cubicBezTo>
                      <a:pt x="42" y="81"/>
                      <a:pt x="42" y="81"/>
                      <a:pt x="42" y="81"/>
                    </a:cubicBezTo>
                    <a:cubicBezTo>
                      <a:pt x="44" y="77"/>
                      <a:pt x="45" y="73"/>
                      <a:pt x="45" y="69"/>
                    </a:cubicBezTo>
                    <a:cubicBezTo>
                      <a:pt x="50" y="71"/>
                      <a:pt x="50" y="71"/>
                      <a:pt x="50" y="71"/>
                    </a:cubicBezTo>
                    <a:cubicBezTo>
                      <a:pt x="50" y="58"/>
                      <a:pt x="50" y="58"/>
                      <a:pt x="50" y="58"/>
                    </a:cubicBezTo>
                    <a:cubicBezTo>
                      <a:pt x="45" y="56"/>
                      <a:pt x="45" y="56"/>
                      <a:pt x="45" y="56"/>
                    </a:cubicBezTo>
                    <a:cubicBezTo>
                      <a:pt x="45" y="51"/>
                      <a:pt x="44" y="46"/>
                      <a:pt x="42" y="41"/>
                    </a:cubicBezTo>
                    <a:cubicBezTo>
                      <a:pt x="46" y="37"/>
                      <a:pt x="46" y="37"/>
                      <a:pt x="46" y="37"/>
                    </a:cubicBezTo>
                    <a:cubicBezTo>
                      <a:pt x="40" y="25"/>
                      <a:pt x="40" y="25"/>
                      <a:pt x="40" y="25"/>
                    </a:cubicBezTo>
                    <a:cubicBezTo>
                      <a:pt x="37" y="29"/>
                      <a:pt x="37" y="29"/>
                      <a:pt x="37" y="29"/>
                    </a:cubicBezTo>
                    <a:cubicBezTo>
                      <a:pt x="35" y="26"/>
                      <a:pt x="32" y="23"/>
                      <a:pt x="30" y="21"/>
                    </a:cubicBezTo>
                    <a:cubicBezTo>
                      <a:pt x="30" y="13"/>
                      <a:pt x="30" y="13"/>
                      <a:pt x="30" y="13"/>
                    </a:cubicBezTo>
                    <a:cubicBezTo>
                      <a:pt x="22" y="9"/>
                      <a:pt x="22" y="9"/>
                      <a:pt x="22" y="9"/>
                    </a:cubicBezTo>
                    <a:moveTo>
                      <a:pt x="62" y="49"/>
                    </a:moveTo>
                    <a:cubicBezTo>
                      <a:pt x="61" y="49"/>
                      <a:pt x="61" y="49"/>
                      <a:pt x="60" y="48"/>
                    </a:cubicBezTo>
                    <a:cubicBezTo>
                      <a:pt x="60" y="48"/>
                      <a:pt x="60" y="48"/>
                      <a:pt x="60" y="48"/>
                    </a:cubicBezTo>
                    <a:cubicBezTo>
                      <a:pt x="54" y="46"/>
                      <a:pt x="49" y="35"/>
                      <a:pt x="49" y="25"/>
                    </a:cubicBezTo>
                    <a:cubicBezTo>
                      <a:pt x="49" y="17"/>
                      <a:pt x="53" y="11"/>
                      <a:pt x="57" y="11"/>
                    </a:cubicBezTo>
                    <a:cubicBezTo>
                      <a:pt x="58" y="11"/>
                      <a:pt x="59" y="11"/>
                      <a:pt x="60" y="12"/>
                    </a:cubicBezTo>
                    <a:cubicBezTo>
                      <a:pt x="60" y="12"/>
                      <a:pt x="60" y="12"/>
                      <a:pt x="60" y="12"/>
                    </a:cubicBezTo>
                    <a:cubicBezTo>
                      <a:pt x="66" y="14"/>
                      <a:pt x="71" y="25"/>
                      <a:pt x="70" y="35"/>
                    </a:cubicBezTo>
                    <a:cubicBezTo>
                      <a:pt x="70" y="43"/>
                      <a:pt x="67" y="49"/>
                      <a:pt x="62" y="49"/>
                    </a:cubicBezTo>
                    <a:moveTo>
                      <a:pt x="58" y="0"/>
                    </a:moveTo>
                    <a:cubicBezTo>
                      <a:pt x="57" y="5"/>
                      <a:pt x="57" y="5"/>
                      <a:pt x="57" y="5"/>
                    </a:cubicBezTo>
                    <a:cubicBezTo>
                      <a:pt x="57" y="5"/>
                      <a:pt x="57" y="5"/>
                      <a:pt x="57" y="5"/>
                    </a:cubicBezTo>
                    <a:cubicBezTo>
                      <a:pt x="55" y="5"/>
                      <a:pt x="54" y="6"/>
                      <a:pt x="52" y="7"/>
                    </a:cubicBezTo>
                    <a:cubicBezTo>
                      <a:pt x="50" y="2"/>
                      <a:pt x="50" y="2"/>
                      <a:pt x="50" y="2"/>
                    </a:cubicBezTo>
                    <a:cubicBezTo>
                      <a:pt x="46" y="7"/>
                      <a:pt x="46" y="7"/>
                      <a:pt x="46" y="7"/>
                    </a:cubicBezTo>
                    <a:cubicBezTo>
                      <a:pt x="48" y="11"/>
                      <a:pt x="48" y="11"/>
                      <a:pt x="48" y="11"/>
                    </a:cubicBezTo>
                    <a:cubicBezTo>
                      <a:pt x="47" y="14"/>
                      <a:pt x="47" y="16"/>
                      <a:pt x="46" y="19"/>
                    </a:cubicBezTo>
                    <a:cubicBezTo>
                      <a:pt x="43" y="18"/>
                      <a:pt x="43" y="18"/>
                      <a:pt x="43" y="18"/>
                    </a:cubicBezTo>
                    <a:cubicBezTo>
                      <a:pt x="43" y="27"/>
                      <a:pt x="43" y="27"/>
                      <a:pt x="43" y="27"/>
                    </a:cubicBezTo>
                    <a:cubicBezTo>
                      <a:pt x="46" y="28"/>
                      <a:pt x="46" y="28"/>
                      <a:pt x="46" y="28"/>
                    </a:cubicBezTo>
                    <a:cubicBezTo>
                      <a:pt x="46" y="32"/>
                      <a:pt x="47" y="35"/>
                      <a:pt x="48" y="38"/>
                    </a:cubicBezTo>
                    <a:cubicBezTo>
                      <a:pt x="46" y="41"/>
                      <a:pt x="46" y="41"/>
                      <a:pt x="46" y="41"/>
                    </a:cubicBezTo>
                    <a:cubicBezTo>
                      <a:pt x="49" y="49"/>
                      <a:pt x="49" y="49"/>
                      <a:pt x="49" y="49"/>
                    </a:cubicBezTo>
                    <a:cubicBezTo>
                      <a:pt x="52" y="46"/>
                      <a:pt x="52" y="46"/>
                      <a:pt x="52" y="46"/>
                    </a:cubicBezTo>
                    <a:cubicBezTo>
                      <a:pt x="53" y="49"/>
                      <a:pt x="55" y="51"/>
                      <a:pt x="57" y="52"/>
                    </a:cubicBezTo>
                    <a:cubicBezTo>
                      <a:pt x="57" y="57"/>
                      <a:pt x="57" y="57"/>
                      <a:pt x="57" y="57"/>
                    </a:cubicBezTo>
                    <a:cubicBezTo>
                      <a:pt x="62" y="60"/>
                      <a:pt x="62" y="60"/>
                      <a:pt x="62" y="60"/>
                    </a:cubicBezTo>
                    <a:cubicBezTo>
                      <a:pt x="62" y="55"/>
                      <a:pt x="62" y="55"/>
                      <a:pt x="62" y="55"/>
                    </a:cubicBezTo>
                    <a:cubicBezTo>
                      <a:pt x="62" y="55"/>
                      <a:pt x="63" y="55"/>
                      <a:pt x="63" y="55"/>
                    </a:cubicBezTo>
                    <a:cubicBezTo>
                      <a:pt x="65" y="55"/>
                      <a:pt x="66" y="54"/>
                      <a:pt x="67" y="53"/>
                    </a:cubicBezTo>
                    <a:cubicBezTo>
                      <a:pt x="70" y="58"/>
                      <a:pt x="70" y="58"/>
                      <a:pt x="70" y="58"/>
                    </a:cubicBezTo>
                    <a:cubicBezTo>
                      <a:pt x="73" y="53"/>
                      <a:pt x="73" y="53"/>
                      <a:pt x="73" y="53"/>
                    </a:cubicBezTo>
                    <a:cubicBezTo>
                      <a:pt x="71" y="48"/>
                      <a:pt x="71" y="48"/>
                      <a:pt x="71" y="48"/>
                    </a:cubicBezTo>
                    <a:cubicBezTo>
                      <a:pt x="72" y="46"/>
                      <a:pt x="73" y="44"/>
                      <a:pt x="73" y="41"/>
                    </a:cubicBezTo>
                    <a:cubicBezTo>
                      <a:pt x="77" y="42"/>
                      <a:pt x="77" y="42"/>
                      <a:pt x="77" y="42"/>
                    </a:cubicBezTo>
                    <a:cubicBezTo>
                      <a:pt x="77" y="33"/>
                      <a:pt x="77" y="33"/>
                      <a:pt x="77" y="33"/>
                    </a:cubicBezTo>
                    <a:cubicBezTo>
                      <a:pt x="74" y="32"/>
                      <a:pt x="74" y="32"/>
                      <a:pt x="74" y="32"/>
                    </a:cubicBezTo>
                    <a:cubicBezTo>
                      <a:pt x="73" y="28"/>
                      <a:pt x="73" y="25"/>
                      <a:pt x="72" y="22"/>
                    </a:cubicBezTo>
                    <a:cubicBezTo>
                      <a:pt x="74" y="19"/>
                      <a:pt x="74" y="19"/>
                      <a:pt x="74" y="19"/>
                    </a:cubicBezTo>
                    <a:cubicBezTo>
                      <a:pt x="70" y="11"/>
                      <a:pt x="70" y="11"/>
                      <a:pt x="70" y="11"/>
                    </a:cubicBezTo>
                    <a:cubicBezTo>
                      <a:pt x="68" y="14"/>
                      <a:pt x="68" y="14"/>
                      <a:pt x="68" y="14"/>
                    </a:cubicBezTo>
                    <a:cubicBezTo>
                      <a:pt x="66" y="11"/>
                      <a:pt x="65" y="9"/>
                      <a:pt x="63" y="8"/>
                    </a:cubicBezTo>
                    <a:cubicBezTo>
                      <a:pt x="63" y="2"/>
                      <a:pt x="63" y="2"/>
                      <a:pt x="63" y="2"/>
                    </a:cubicBezTo>
                    <a:cubicBezTo>
                      <a:pt x="58" y="0"/>
                      <a:pt x="58" y="0"/>
                      <a:pt x="58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" name="Text Box 9"/>
            <p:cNvSpPr/>
            <p:nvPr/>
          </p:nvSpPr>
          <p:spPr>
            <a:xfrm rot="20220000">
              <a:off x="1928520" y="1905840"/>
              <a:ext cx="128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商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Text Box 10"/>
          <p:cNvSpPr/>
          <p:nvPr/>
        </p:nvSpPr>
        <p:spPr>
          <a:xfrm>
            <a:off x="3070080" y="2925720"/>
            <a:ext cx="32403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加速商品流通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减少付款拥挤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锁定目标群体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创造舒适购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1" descr="QQ截图20150828220244_副本"/>
          <p:cNvPicPr/>
          <p:nvPr/>
        </p:nvPicPr>
        <p:blipFill>
          <a:blip r:embed="rId1"/>
          <a:srcRect l="0" t="0" r="6327" b="0"/>
          <a:stretch/>
        </p:blipFill>
        <p:spPr>
          <a:xfrm>
            <a:off x="6384960" y="1341360"/>
            <a:ext cx="5261040" cy="47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MH_Other_1"/>
          <p:cNvSpPr/>
          <p:nvPr/>
        </p:nvSpPr>
        <p:spPr>
          <a:xfrm>
            <a:off x="2797200" y="3935520"/>
            <a:ext cx="6537240" cy="1958760"/>
          </a:xfrm>
          <a:custGeom>
            <a:avLst/>
            <a:gdLst>
              <a:gd name="textAreaLeft" fmla="*/ 0 w 6537240"/>
              <a:gd name="textAreaRight" fmla="*/ 6537600 w 6537240"/>
              <a:gd name="textAreaTop" fmla="*/ 0 h 1958760"/>
              <a:gd name="textAreaBottom" fmla="*/ 1959120 h 1958760"/>
            </a:gdLst>
            <a:ahLst/>
            <a:rect l="textAreaLeft" t="textAreaTop" r="textAreaRight" b="textAreaBottom"/>
            <a:pathLst>
              <a:path w="4946468" h="1959429">
                <a:moveTo>
                  <a:pt x="0" y="1959429"/>
                </a:moveTo>
                <a:lnTo>
                  <a:pt x="1271452" y="1959429"/>
                </a:lnTo>
                <a:lnTo>
                  <a:pt x="1271452" y="1367246"/>
                </a:lnTo>
                <a:lnTo>
                  <a:pt x="2577737" y="1367246"/>
                </a:lnTo>
                <a:lnTo>
                  <a:pt x="2577737" y="679269"/>
                </a:lnTo>
                <a:lnTo>
                  <a:pt x="3796937" y="679269"/>
                </a:lnTo>
                <a:lnTo>
                  <a:pt x="3796937" y="8709"/>
                </a:lnTo>
                <a:lnTo>
                  <a:pt x="4946468" y="0"/>
                </a:lnTo>
              </a:path>
            </a:pathLst>
          </a:custGeom>
          <a:noFill/>
          <a:ln w="57240">
            <a:solidFill>
              <a:srgbClr val="c20f2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MH_Other_2"/>
          <p:cNvSpPr/>
          <p:nvPr/>
        </p:nvSpPr>
        <p:spPr>
          <a:xfrm rot="8088600">
            <a:off x="3053520" y="3535200"/>
            <a:ext cx="917640" cy="904680"/>
          </a:xfrm>
          <a:custGeom>
            <a:avLst/>
            <a:gdLst>
              <a:gd name="textAreaLeft" fmla="*/ 0 w 917640"/>
              <a:gd name="textAreaRight" fmla="*/ 918000 w 917640"/>
              <a:gd name="textAreaTop" fmla="*/ 0 h 904680"/>
              <a:gd name="textAreaBottom" fmla="*/ 905040 h 904680"/>
            </a:gdLst>
            <a:ahLst/>
            <a:rect l="textAreaLeft" t="textAreaTop" r="textAreaRight" b="textAreaBottom"/>
            <a:pathLst>
              <a:path w="1227047" h="1227047">
                <a:moveTo>
                  <a:pt x="160704" y="1066343"/>
                </a:moveTo>
                <a:cubicBezTo>
                  <a:pt x="61413" y="967052"/>
                  <a:pt x="0" y="829882"/>
                  <a:pt x="0" y="678369"/>
                </a:cubicBezTo>
                <a:cubicBezTo>
                  <a:pt x="0" y="375343"/>
                  <a:pt x="245652" y="129691"/>
                  <a:pt x="548678" y="129691"/>
                </a:cubicBezTo>
                <a:cubicBezTo>
                  <a:pt x="774801" y="129691"/>
                  <a:pt x="1000924" y="86461"/>
                  <a:pt x="1227047" y="0"/>
                </a:cubicBezTo>
                <a:cubicBezTo>
                  <a:pt x="1140586" y="226123"/>
                  <a:pt x="1097356" y="452246"/>
                  <a:pt x="1097356" y="678369"/>
                </a:cubicBezTo>
                <a:cubicBezTo>
                  <a:pt x="1097356" y="981395"/>
                  <a:pt x="851704" y="1227047"/>
                  <a:pt x="548678" y="1227047"/>
                </a:cubicBezTo>
                <a:cubicBezTo>
                  <a:pt x="397165" y="1227047"/>
                  <a:pt x="259996" y="1165634"/>
                  <a:pt x="160704" y="1066343"/>
                </a:cubicBezTo>
                <a:close/>
              </a:path>
            </a:pathLst>
          </a:custGeom>
          <a:noFill/>
          <a:ln w="19080">
            <a:solidFill>
              <a:srgbClr val="c20f2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MH_Other_3"/>
          <p:cNvSpPr/>
          <p:nvPr/>
        </p:nvSpPr>
        <p:spPr>
          <a:xfrm>
            <a:off x="3457440" y="4710240"/>
            <a:ext cx="119160" cy="117360"/>
          </a:xfrm>
          <a:prstGeom prst="ellipse">
            <a:avLst/>
          </a:prstGeom>
          <a:solidFill>
            <a:srgbClr val="c00000"/>
          </a:solidFill>
          <a:ln w="28440">
            <a:solidFill>
              <a:srgbClr val="ffbd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MH_SubTitle_1"/>
          <p:cNvSpPr/>
          <p:nvPr/>
        </p:nvSpPr>
        <p:spPr>
          <a:xfrm>
            <a:off x="3090960" y="3652920"/>
            <a:ext cx="84780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20f2a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MH_Text_1"/>
          <p:cNvSpPr/>
          <p:nvPr/>
        </p:nvSpPr>
        <p:spPr>
          <a:xfrm>
            <a:off x="2784600" y="4941720"/>
            <a:ext cx="144144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平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客户增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MH_Other_4"/>
          <p:cNvSpPr/>
          <p:nvPr/>
        </p:nvSpPr>
        <p:spPr>
          <a:xfrm rot="8088600">
            <a:off x="4750560" y="2936520"/>
            <a:ext cx="917640" cy="904680"/>
          </a:xfrm>
          <a:custGeom>
            <a:avLst/>
            <a:gdLst>
              <a:gd name="textAreaLeft" fmla="*/ 0 w 917640"/>
              <a:gd name="textAreaRight" fmla="*/ 918000 w 917640"/>
              <a:gd name="textAreaTop" fmla="*/ 0 h 904680"/>
              <a:gd name="textAreaBottom" fmla="*/ 905040 h 904680"/>
            </a:gdLst>
            <a:ahLst/>
            <a:rect l="textAreaLeft" t="textAreaTop" r="textAreaRight" b="textAreaBottom"/>
            <a:pathLst>
              <a:path w="1227047" h="1227047">
                <a:moveTo>
                  <a:pt x="160704" y="1066343"/>
                </a:moveTo>
                <a:cubicBezTo>
                  <a:pt x="61413" y="967052"/>
                  <a:pt x="0" y="829882"/>
                  <a:pt x="0" y="678369"/>
                </a:cubicBezTo>
                <a:cubicBezTo>
                  <a:pt x="0" y="375343"/>
                  <a:pt x="245652" y="129691"/>
                  <a:pt x="548678" y="129691"/>
                </a:cubicBezTo>
                <a:cubicBezTo>
                  <a:pt x="774801" y="129691"/>
                  <a:pt x="1000924" y="86461"/>
                  <a:pt x="1227047" y="0"/>
                </a:cubicBezTo>
                <a:cubicBezTo>
                  <a:pt x="1140586" y="226123"/>
                  <a:pt x="1097356" y="452246"/>
                  <a:pt x="1097356" y="678369"/>
                </a:cubicBezTo>
                <a:cubicBezTo>
                  <a:pt x="1097356" y="981395"/>
                  <a:pt x="851704" y="1227047"/>
                  <a:pt x="548678" y="1227047"/>
                </a:cubicBezTo>
                <a:cubicBezTo>
                  <a:pt x="397165" y="1227047"/>
                  <a:pt x="259996" y="1165634"/>
                  <a:pt x="160704" y="1066343"/>
                </a:cubicBezTo>
                <a:close/>
              </a:path>
            </a:pathLst>
          </a:custGeom>
          <a:noFill/>
          <a:ln w="19080">
            <a:solidFill>
              <a:srgbClr val="c20f2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MH_Other_5"/>
          <p:cNvSpPr/>
          <p:nvPr/>
        </p:nvSpPr>
        <p:spPr>
          <a:xfrm>
            <a:off x="5154480" y="4111560"/>
            <a:ext cx="119160" cy="117720"/>
          </a:xfrm>
          <a:prstGeom prst="ellipse">
            <a:avLst/>
          </a:prstGeom>
          <a:solidFill>
            <a:srgbClr val="c00000"/>
          </a:solidFill>
          <a:ln w="28440">
            <a:solidFill>
              <a:srgbClr val="ffbd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MH_SubTitle_2"/>
          <p:cNvSpPr/>
          <p:nvPr/>
        </p:nvSpPr>
        <p:spPr>
          <a:xfrm>
            <a:off x="4788000" y="3054240"/>
            <a:ext cx="84780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20f2a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MH_Text_2"/>
          <p:cNvSpPr/>
          <p:nvPr/>
        </p:nvSpPr>
        <p:spPr>
          <a:xfrm>
            <a:off x="4494240" y="4321080"/>
            <a:ext cx="1441440" cy="9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客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粘性增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MH_Other_6"/>
          <p:cNvSpPr/>
          <p:nvPr/>
        </p:nvSpPr>
        <p:spPr>
          <a:xfrm rot="8088600">
            <a:off x="6447600" y="2244600"/>
            <a:ext cx="917640" cy="904680"/>
          </a:xfrm>
          <a:custGeom>
            <a:avLst/>
            <a:gdLst>
              <a:gd name="textAreaLeft" fmla="*/ 0 w 917640"/>
              <a:gd name="textAreaRight" fmla="*/ 918000 w 917640"/>
              <a:gd name="textAreaTop" fmla="*/ 0 h 904680"/>
              <a:gd name="textAreaBottom" fmla="*/ 905040 h 904680"/>
            </a:gdLst>
            <a:ahLst/>
            <a:rect l="textAreaLeft" t="textAreaTop" r="textAreaRight" b="textAreaBottom"/>
            <a:pathLst>
              <a:path w="1227047" h="1227047">
                <a:moveTo>
                  <a:pt x="160704" y="1066343"/>
                </a:moveTo>
                <a:cubicBezTo>
                  <a:pt x="61413" y="967052"/>
                  <a:pt x="0" y="829882"/>
                  <a:pt x="0" y="678369"/>
                </a:cubicBezTo>
                <a:cubicBezTo>
                  <a:pt x="0" y="375343"/>
                  <a:pt x="245652" y="129691"/>
                  <a:pt x="548678" y="129691"/>
                </a:cubicBezTo>
                <a:cubicBezTo>
                  <a:pt x="774801" y="129691"/>
                  <a:pt x="1000924" y="86461"/>
                  <a:pt x="1227047" y="0"/>
                </a:cubicBezTo>
                <a:cubicBezTo>
                  <a:pt x="1140586" y="226123"/>
                  <a:pt x="1097356" y="452246"/>
                  <a:pt x="1097356" y="678369"/>
                </a:cubicBezTo>
                <a:cubicBezTo>
                  <a:pt x="1097356" y="981395"/>
                  <a:pt x="851704" y="1227047"/>
                  <a:pt x="548678" y="1227047"/>
                </a:cubicBezTo>
                <a:cubicBezTo>
                  <a:pt x="397165" y="1227047"/>
                  <a:pt x="259996" y="1165634"/>
                  <a:pt x="160704" y="1066343"/>
                </a:cubicBezTo>
                <a:close/>
              </a:path>
            </a:pathLst>
          </a:custGeom>
          <a:noFill/>
          <a:ln w="19080">
            <a:solidFill>
              <a:srgbClr val="c20f2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MH_Other_7"/>
          <p:cNvSpPr/>
          <p:nvPr/>
        </p:nvSpPr>
        <p:spPr>
          <a:xfrm>
            <a:off x="6851520" y="3419640"/>
            <a:ext cx="119160" cy="117360"/>
          </a:xfrm>
          <a:prstGeom prst="ellipse">
            <a:avLst/>
          </a:prstGeom>
          <a:solidFill>
            <a:srgbClr val="c00000"/>
          </a:solidFill>
          <a:ln w="28440">
            <a:solidFill>
              <a:srgbClr val="ffbd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MH_SubTitle_3"/>
          <p:cNvSpPr/>
          <p:nvPr/>
        </p:nvSpPr>
        <p:spPr>
          <a:xfrm>
            <a:off x="6485040" y="2362320"/>
            <a:ext cx="84780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20f2a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c20f2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MH_Text_3"/>
          <p:cNvSpPr/>
          <p:nvPr/>
        </p:nvSpPr>
        <p:spPr>
          <a:xfrm>
            <a:off x="6191280" y="3629160"/>
            <a:ext cx="1441440" cy="9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平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价值提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MH_Other_8"/>
          <p:cNvSpPr/>
          <p:nvPr/>
        </p:nvSpPr>
        <p:spPr>
          <a:xfrm rot="8088600">
            <a:off x="8145720" y="1573560"/>
            <a:ext cx="917640" cy="903240"/>
          </a:xfrm>
          <a:custGeom>
            <a:avLst/>
            <a:gdLst>
              <a:gd name="textAreaLeft" fmla="*/ 0 w 917640"/>
              <a:gd name="textAreaRight" fmla="*/ 918000 w 917640"/>
              <a:gd name="textAreaTop" fmla="*/ 0 h 903240"/>
              <a:gd name="textAreaBottom" fmla="*/ 903600 h 903240"/>
            </a:gdLst>
            <a:ahLst/>
            <a:rect l="textAreaLeft" t="textAreaTop" r="textAreaRight" b="textAreaBottom"/>
            <a:pathLst>
              <a:path w="1227047" h="1227047">
                <a:moveTo>
                  <a:pt x="160704" y="1066343"/>
                </a:moveTo>
                <a:cubicBezTo>
                  <a:pt x="61413" y="967052"/>
                  <a:pt x="0" y="829882"/>
                  <a:pt x="0" y="678369"/>
                </a:cubicBezTo>
                <a:cubicBezTo>
                  <a:pt x="0" y="375343"/>
                  <a:pt x="245652" y="129691"/>
                  <a:pt x="548678" y="129691"/>
                </a:cubicBezTo>
                <a:cubicBezTo>
                  <a:pt x="774801" y="129691"/>
                  <a:pt x="1000924" y="86461"/>
                  <a:pt x="1227047" y="0"/>
                </a:cubicBezTo>
                <a:cubicBezTo>
                  <a:pt x="1140586" y="226123"/>
                  <a:pt x="1097356" y="452246"/>
                  <a:pt x="1097356" y="678369"/>
                </a:cubicBezTo>
                <a:cubicBezTo>
                  <a:pt x="1097356" y="981395"/>
                  <a:pt x="851704" y="1227047"/>
                  <a:pt x="548678" y="1227047"/>
                </a:cubicBezTo>
                <a:cubicBezTo>
                  <a:pt x="397165" y="1227047"/>
                  <a:pt x="259996" y="1165634"/>
                  <a:pt x="160704" y="1066343"/>
                </a:cubicBezTo>
                <a:close/>
              </a:path>
            </a:pathLst>
          </a:custGeom>
          <a:noFill/>
          <a:ln w="19080">
            <a:solidFill>
              <a:srgbClr val="c20f2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MH_Other_9"/>
          <p:cNvSpPr/>
          <p:nvPr/>
        </p:nvSpPr>
        <p:spPr>
          <a:xfrm>
            <a:off x="8550360" y="2747880"/>
            <a:ext cx="117360" cy="117720"/>
          </a:xfrm>
          <a:prstGeom prst="ellipse">
            <a:avLst/>
          </a:prstGeom>
          <a:solidFill>
            <a:srgbClr val="c20f2a"/>
          </a:solidFill>
          <a:ln w="28440">
            <a:solidFill>
              <a:srgbClr val="ffbd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MH_SubTitle_4"/>
          <p:cNvSpPr/>
          <p:nvPr/>
        </p:nvSpPr>
        <p:spPr>
          <a:xfrm>
            <a:off x="8182080" y="1690560"/>
            <a:ext cx="84780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20f2a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c20f2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MH_Text_4"/>
          <p:cNvSpPr/>
          <p:nvPr/>
        </p:nvSpPr>
        <p:spPr>
          <a:xfrm>
            <a:off x="7773840" y="2957400"/>
            <a:ext cx="1555920" cy="9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衍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商业模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19"/>
          <p:cNvGrpSpPr/>
          <p:nvPr/>
        </p:nvGrpSpPr>
        <p:grpSpPr>
          <a:xfrm>
            <a:off x="623880" y="909720"/>
            <a:ext cx="2804400" cy="1509480"/>
            <a:chOff x="623880" y="909720"/>
            <a:chExt cx="2804400" cy="1509480"/>
          </a:xfrm>
        </p:grpSpPr>
        <p:grpSp>
          <p:nvGrpSpPr>
            <p:cNvPr id="228" name="Group 20"/>
            <p:cNvGrpSpPr/>
            <p:nvPr/>
          </p:nvGrpSpPr>
          <p:grpSpPr>
            <a:xfrm>
              <a:off x="623880" y="909720"/>
              <a:ext cx="2394360" cy="1509480"/>
              <a:chOff x="623880" y="909720"/>
              <a:chExt cx="2394360" cy="1509480"/>
            </a:xfrm>
          </p:grpSpPr>
          <p:sp>
            <p:nvSpPr>
              <p:cNvPr id="229" name="Freeform 13"/>
              <p:cNvSpPr/>
              <p:nvPr/>
            </p:nvSpPr>
            <p:spPr>
              <a:xfrm>
                <a:off x="1822320" y="1355040"/>
                <a:ext cx="1195920" cy="1064160"/>
              </a:xfrm>
              <a:custGeom>
                <a:avLst/>
                <a:gdLst>
                  <a:gd name="textAreaLeft" fmla="*/ 0 w 1195920"/>
                  <a:gd name="textAreaRight" fmla="*/ 1196280 w 1195920"/>
                  <a:gd name="textAreaTop" fmla="*/ 0 h 1064160"/>
                  <a:gd name="textAreaBottom" fmla="*/ 1064520 h 1064160"/>
                </a:gdLst>
                <a:ahLst/>
                <a:rect l="textAreaLeft" t="textAreaTop" r="textAreaRight" b="textAreaBottom"/>
                <a:pathLst>
                  <a:path w="453" h="474">
                    <a:moveTo>
                      <a:pt x="453" y="0"/>
                    </a:moveTo>
                    <a:lnTo>
                      <a:pt x="0" y="194"/>
                    </a:lnTo>
                    <a:lnTo>
                      <a:pt x="0" y="474"/>
                    </a:lnTo>
                    <a:lnTo>
                      <a:pt x="453" y="277"/>
                    </a:lnTo>
                    <a:lnTo>
                      <a:pt x="453" y="0"/>
                    </a:lnTo>
                    <a:close/>
                  </a:path>
                </a:pathLst>
              </a:custGeom>
              <a:solidFill>
                <a:srgbClr val="f04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14"/>
              <p:cNvSpPr/>
              <p:nvPr/>
            </p:nvSpPr>
            <p:spPr>
              <a:xfrm>
                <a:off x="623880" y="1355040"/>
                <a:ext cx="1198440" cy="1064160"/>
              </a:xfrm>
              <a:custGeom>
                <a:avLst/>
                <a:gdLst>
                  <a:gd name="textAreaLeft" fmla="*/ 0 w 1198440"/>
                  <a:gd name="textAreaRight" fmla="*/ 1198800 w 1198440"/>
                  <a:gd name="textAreaTop" fmla="*/ 0 h 1064160"/>
                  <a:gd name="textAreaBottom" fmla="*/ 1064520 h 1064160"/>
                </a:gdLst>
                <a:ahLst/>
                <a:rect l="textAreaLeft" t="textAreaTop" r="textAreaRight" b="textAreaBottom"/>
                <a:pathLst>
                  <a:path w="453" h="474">
                    <a:moveTo>
                      <a:pt x="0" y="0"/>
                    </a:moveTo>
                    <a:lnTo>
                      <a:pt x="453" y="194"/>
                    </a:lnTo>
                    <a:lnTo>
                      <a:pt x="453" y="474"/>
                    </a:lnTo>
                    <a:lnTo>
                      <a:pt x="0" y="27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369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42"/>
              <p:cNvSpPr/>
              <p:nvPr/>
            </p:nvSpPr>
            <p:spPr>
              <a:xfrm>
                <a:off x="1037880" y="1567440"/>
                <a:ext cx="358560" cy="623160"/>
              </a:xfrm>
              <a:custGeom>
                <a:avLst/>
                <a:gdLst>
                  <a:gd name="textAreaLeft" fmla="*/ 0 w 358560"/>
                  <a:gd name="textAreaRight" fmla="*/ 358920 w 358560"/>
                  <a:gd name="textAreaTop" fmla="*/ 0 h 623160"/>
                  <a:gd name="textAreaBottom" fmla="*/ 623520 h 623160"/>
                </a:gdLst>
                <a:ahLst/>
                <a:rect l="textAreaLeft" t="textAreaTop" r="textAreaRight" b="textAreaBottom"/>
                <a:pathLst>
                  <a:path w="57" h="117">
                    <a:moveTo>
                      <a:pt x="44" y="59"/>
                    </a:moveTo>
                    <a:cubicBezTo>
                      <a:pt x="43" y="59"/>
                      <a:pt x="42" y="61"/>
                      <a:pt x="42" y="64"/>
                    </a:cubicBezTo>
                    <a:cubicBezTo>
                      <a:pt x="42" y="65"/>
                      <a:pt x="42" y="66"/>
                      <a:pt x="42" y="68"/>
                    </a:cubicBezTo>
                    <a:cubicBezTo>
                      <a:pt x="43" y="68"/>
                      <a:pt x="43" y="68"/>
                      <a:pt x="43" y="68"/>
                    </a:cubicBezTo>
                    <a:cubicBezTo>
                      <a:pt x="43" y="71"/>
                      <a:pt x="43" y="71"/>
                      <a:pt x="42" y="71"/>
                    </a:cubicBezTo>
                    <a:cubicBezTo>
                      <a:pt x="42" y="71"/>
                      <a:pt x="42" y="71"/>
                      <a:pt x="42" y="71"/>
                    </a:cubicBezTo>
                    <a:cubicBezTo>
                      <a:pt x="33" y="68"/>
                      <a:pt x="33" y="68"/>
                      <a:pt x="33" y="68"/>
                    </a:cubicBezTo>
                    <a:cubicBezTo>
                      <a:pt x="33" y="83"/>
                      <a:pt x="33" y="83"/>
                      <a:pt x="33" y="83"/>
                    </a:cubicBezTo>
                    <a:cubicBezTo>
                      <a:pt x="33" y="84"/>
                      <a:pt x="33" y="85"/>
                      <a:pt x="32" y="85"/>
                    </a:cubicBezTo>
                    <a:cubicBezTo>
                      <a:pt x="32" y="85"/>
                      <a:pt x="32" y="85"/>
                      <a:pt x="32" y="85"/>
                    </a:cubicBezTo>
                    <a:cubicBezTo>
                      <a:pt x="32" y="85"/>
                      <a:pt x="31" y="84"/>
                      <a:pt x="31" y="84"/>
                    </a:cubicBezTo>
                    <a:cubicBezTo>
                      <a:pt x="30" y="83"/>
                      <a:pt x="30" y="83"/>
                      <a:pt x="30" y="83"/>
                    </a:cubicBezTo>
                    <a:cubicBezTo>
                      <a:pt x="30" y="82"/>
                      <a:pt x="29" y="81"/>
                      <a:pt x="29" y="81"/>
                    </a:cubicBezTo>
                    <a:cubicBezTo>
                      <a:pt x="28" y="81"/>
                      <a:pt x="28" y="81"/>
                      <a:pt x="28" y="81"/>
                    </a:cubicBezTo>
                    <a:cubicBezTo>
                      <a:pt x="26" y="81"/>
                      <a:pt x="25" y="83"/>
                      <a:pt x="25" y="85"/>
                    </a:cubicBezTo>
                    <a:cubicBezTo>
                      <a:pt x="25" y="88"/>
                      <a:pt x="27" y="92"/>
                      <a:pt x="29" y="92"/>
                    </a:cubicBezTo>
                    <a:cubicBezTo>
                      <a:pt x="29" y="93"/>
                      <a:pt x="29" y="93"/>
                      <a:pt x="29" y="93"/>
                    </a:cubicBezTo>
                    <a:cubicBezTo>
                      <a:pt x="30" y="93"/>
                      <a:pt x="30" y="92"/>
                      <a:pt x="30" y="92"/>
                    </a:cubicBezTo>
                    <a:cubicBezTo>
                      <a:pt x="31" y="92"/>
                      <a:pt x="31" y="92"/>
                      <a:pt x="31" y="92"/>
                    </a:cubicBezTo>
                    <a:cubicBezTo>
                      <a:pt x="31" y="91"/>
                      <a:pt x="31" y="91"/>
                      <a:pt x="32" y="91"/>
                    </a:cubicBezTo>
                    <a:cubicBezTo>
                      <a:pt x="32" y="91"/>
                      <a:pt x="32" y="91"/>
                      <a:pt x="32" y="91"/>
                    </a:cubicBezTo>
                    <a:cubicBezTo>
                      <a:pt x="33" y="92"/>
                      <a:pt x="33" y="93"/>
                      <a:pt x="33" y="94"/>
                    </a:cubicBezTo>
                    <a:cubicBezTo>
                      <a:pt x="33" y="109"/>
                      <a:pt x="33" y="109"/>
                      <a:pt x="33" y="109"/>
                    </a:cubicBezTo>
                    <a:cubicBezTo>
                      <a:pt x="51" y="117"/>
                      <a:pt x="51" y="117"/>
                      <a:pt x="51" y="117"/>
                    </a:cubicBezTo>
                    <a:cubicBezTo>
                      <a:pt x="52" y="117"/>
                      <a:pt x="52" y="117"/>
                      <a:pt x="53" y="117"/>
                    </a:cubicBezTo>
                    <a:cubicBezTo>
                      <a:pt x="55" y="117"/>
                      <a:pt x="57" y="114"/>
                      <a:pt x="57" y="109"/>
                    </a:cubicBezTo>
                    <a:cubicBezTo>
                      <a:pt x="57" y="78"/>
                      <a:pt x="57" y="78"/>
                      <a:pt x="57" y="78"/>
                    </a:cubicBezTo>
                    <a:cubicBezTo>
                      <a:pt x="48" y="74"/>
                      <a:pt x="48" y="74"/>
                      <a:pt x="48" y="74"/>
                    </a:cubicBezTo>
                    <a:cubicBezTo>
                      <a:pt x="47" y="73"/>
                      <a:pt x="46" y="72"/>
                      <a:pt x="47" y="70"/>
                    </a:cubicBezTo>
                    <a:cubicBezTo>
                      <a:pt x="48" y="70"/>
                      <a:pt x="48" y="70"/>
                      <a:pt x="48" y="70"/>
                    </a:cubicBezTo>
                    <a:cubicBezTo>
                      <a:pt x="48" y="69"/>
                      <a:pt x="48" y="68"/>
                      <a:pt x="48" y="67"/>
                    </a:cubicBezTo>
                    <a:cubicBezTo>
                      <a:pt x="48" y="64"/>
                      <a:pt x="47" y="60"/>
                      <a:pt x="45" y="60"/>
                    </a:cubicBezTo>
                    <a:cubicBezTo>
                      <a:pt x="45" y="60"/>
                      <a:pt x="45" y="59"/>
                      <a:pt x="44" y="59"/>
                    </a:cubicBezTo>
                    <a:moveTo>
                      <a:pt x="11" y="46"/>
                    </a:moveTo>
                    <a:cubicBezTo>
                      <a:pt x="10" y="46"/>
                      <a:pt x="9" y="48"/>
                      <a:pt x="9" y="50"/>
                    </a:cubicBezTo>
                    <a:cubicBezTo>
                      <a:pt x="9" y="52"/>
                      <a:pt x="9" y="53"/>
                      <a:pt x="9" y="54"/>
                    </a:cubicBezTo>
                    <a:cubicBezTo>
                      <a:pt x="9" y="55"/>
                      <a:pt x="9" y="55"/>
                      <a:pt x="9" y="55"/>
                    </a:cubicBezTo>
                    <a:cubicBezTo>
                      <a:pt x="10" y="57"/>
                      <a:pt x="10" y="58"/>
                      <a:pt x="9" y="58"/>
                    </a:cubicBezTo>
                    <a:cubicBezTo>
                      <a:pt x="9" y="58"/>
                      <a:pt x="9" y="58"/>
                      <a:pt x="9" y="58"/>
                    </a:cubicBezTo>
                    <a:cubicBezTo>
                      <a:pt x="0" y="54"/>
                      <a:pt x="0" y="54"/>
                      <a:pt x="0" y="54"/>
                    </a:cubicBezTo>
                    <a:cubicBezTo>
                      <a:pt x="0" y="70"/>
                      <a:pt x="0" y="70"/>
                      <a:pt x="0" y="70"/>
                    </a:cubicBezTo>
                    <a:cubicBezTo>
                      <a:pt x="0" y="70"/>
                      <a:pt x="0" y="70"/>
                      <a:pt x="0" y="70"/>
                    </a:cubicBezTo>
                    <a:cubicBezTo>
                      <a:pt x="0" y="71"/>
                      <a:pt x="0" y="71"/>
                      <a:pt x="0" y="71"/>
                    </a:cubicBezTo>
                    <a:cubicBezTo>
                      <a:pt x="1" y="70"/>
                      <a:pt x="1" y="70"/>
                      <a:pt x="1" y="70"/>
                    </a:cubicBezTo>
                    <a:cubicBezTo>
                      <a:pt x="1" y="70"/>
                      <a:pt x="1" y="70"/>
                      <a:pt x="1" y="70"/>
                    </a:cubicBezTo>
                    <a:cubicBezTo>
                      <a:pt x="2" y="70"/>
                      <a:pt x="2" y="69"/>
                      <a:pt x="3" y="69"/>
                    </a:cubicBezTo>
                    <a:cubicBezTo>
                      <a:pt x="3" y="69"/>
                      <a:pt x="4" y="69"/>
                      <a:pt x="4" y="70"/>
                    </a:cubicBezTo>
                    <a:cubicBezTo>
                      <a:pt x="6" y="70"/>
                      <a:pt x="8" y="74"/>
                      <a:pt x="8" y="78"/>
                    </a:cubicBezTo>
                    <a:cubicBezTo>
                      <a:pt x="8" y="82"/>
                      <a:pt x="7" y="84"/>
                      <a:pt x="5" y="84"/>
                    </a:cubicBezTo>
                    <a:cubicBezTo>
                      <a:pt x="4" y="84"/>
                      <a:pt x="4" y="84"/>
                      <a:pt x="4" y="84"/>
                    </a:cubicBezTo>
                    <a:cubicBezTo>
                      <a:pt x="3" y="83"/>
                      <a:pt x="2" y="82"/>
                      <a:pt x="1" y="81"/>
                    </a:cubicBezTo>
                    <a:cubicBezTo>
                      <a:pt x="1" y="80"/>
                      <a:pt x="1" y="80"/>
                      <a:pt x="1" y="80"/>
                    </a:cubicBezTo>
                    <a:cubicBezTo>
                      <a:pt x="1" y="80"/>
                      <a:pt x="0" y="80"/>
                      <a:pt x="0" y="80"/>
                    </a:cubicBezTo>
                    <a:cubicBezTo>
                      <a:pt x="0" y="80"/>
                      <a:pt x="0" y="80"/>
                      <a:pt x="0" y="80"/>
                    </a:cubicBezTo>
                    <a:cubicBezTo>
                      <a:pt x="0" y="80"/>
                      <a:pt x="0" y="80"/>
                      <a:pt x="0" y="80"/>
                    </a:cubicBezTo>
                    <a:cubicBezTo>
                      <a:pt x="0" y="85"/>
                      <a:pt x="0" y="85"/>
                      <a:pt x="0" y="85"/>
                    </a:cubicBezTo>
                    <a:cubicBezTo>
                      <a:pt x="0" y="91"/>
                      <a:pt x="2" y="97"/>
                      <a:pt x="6" y="98"/>
                    </a:cubicBezTo>
                    <a:cubicBezTo>
                      <a:pt x="24" y="106"/>
                      <a:pt x="24" y="106"/>
                      <a:pt x="24" y="106"/>
                    </a:cubicBezTo>
                    <a:cubicBezTo>
                      <a:pt x="24" y="90"/>
                      <a:pt x="24" y="90"/>
                      <a:pt x="24" y="90"/>
                    </a:cubicBezTo>
                    <a:cubicBezTo>
                      <a:pt x="24" y="89"/>
                      <a:pt x="24" y="89"/>
                      <a:pt x="24" y="89"/>
                    </a:cubicBezTo>
                    <a:cubicBezTo>
                      <a:pt x="23" y="89"/>
                      <a:pt x="23" y="89"/>
                      <a:pt x="23" y="89"/>
                    </a:cubicBezTo>
                    <a:cubicBezTo>
                      <a:pt x="23" y="89"/>
                      <a:pt x="23" y="89"/>
                      <a:pt x="23" y="89"/>
                    </a:cubicBezTo>
                    <a:cubicBezTo>
                      <a:pt x="22" y="90"/>
                      <a:pt x="22" y="90"/>
                      <a:pt x="22" y="90"/>
                    </a:cubicBezTo>
                    <a:cubicBezTo>
                      <a:pt x="22" y="90"/>
                      <a:pt x="21" y="90"/>
                      <a:pt x="21" y="90"/>
                    </a:cubicBezTo>
                    <a:cubicBezTo>
                      <a:pt x="20" y="90"/>
                      <a:pt x="20" y="90"/>
                      <a:pt x="20" y="90"/>
                    </a:cubicBezTo>
                    <a:cubicBezTo>
                      <a:pt x="18" y="89"/>
                      <a:pt x="16" y="85"/>
                      <a:pt x="16" y="81"/>
                    </a:cubicBezTo>
                    <a:cubicBezTo>
                      <a:pt x="16" y="78"/>
                      <a:pt x="17" y="76"/>
                      <a:pt x="19" y="76"/>
                    </a:cubicBezTo>
                    <a:cubicBezTo>
                      <a:pt x="19" y="76"/>
                      <a:pt x="20" y="76"/>
                      <a:pt x="20" y="76"/>
                    </a:cubicBezTo>
                    <a:cubicBezTo>
                      <a:pt x="21" y="76"/>
                      <a:pt x="22" y="77"/>
                      <a:pt x="22" y="78"/>
                    </a:cubicBezTo>
                    <a:cubicBezTo>
                      <a:pt x="23" y="79"/>
                      <a:pt x="23" y="79"/>
                      <a:pt x="23" y="79"/>
                    </a:cubicBezTo>
                    <a:cubicBezTo>
                      <a:pt x="23" y="80"/>
                      <a:pt x="23" y="80"/>
                      <a:pt x="23" y="80"/>
                    </a:cubicBezTo>
                    <a:cubicBezTo>
                      <a:pt x="24" y="80"/>
                      <a:pt x="24" y="80"/>
                      <a:pt x="24" y="80"/>
                    </a:cubicBezTo>
                    <a:cubicBezTo>
                      <a:pt x="24" y="80"/>
                      <a:pt x="24" y="80"/>
                      <a:pt x="24" y="80"/>
                    </a:cubicBezTo>
                    <a:cubicBezTo>
                      <a:pt x="24" y="64"/>
                      <a:pt x="24" y="64"/>
                      <a:pt x="24" y="64"/>
                    </a:cubicBezTo>
                    <a:cubicBezTo>
                      <a:pt x="15" y="60"/>
                      <a:pt x="15" y="60"/>
                      <a:pt x="15" y="60"/>
                    </a:cubicBezTo>
                    <a:cubicBezTo>
                      <a:pt x="14" y="60"/>
                      <a:pt x="13" y="59"/>
                      <a:pt x="14" y="57"/>
                    </a:cubicBezTo>
                    <a:cubicBezTo>
                      <a:pt x="15" y="56"/>
                      <a:pt x="15" y="56"/>
                      <a:pt x="15" y="56"/>
                    </a:cubicBezTo>
                    <a:cubicBezTo>
                      <a:pt x="15" y="55"/>
                      <a:pt x="15" y="54"/>
                      <a:pt x="15" y="53"/>
                    </a:cubicBezTo>
                    <a:cubicBezTo>
                      <a:pt x="15" y="50"/>
                      <a:pt x="14" y="47"/>
                      <a:pt x="12" y="46"/>
                    </a:cubicBezTo>
                    <a:cubicBezTo>
                      <a:pt x="12" y="46"/>
                      <a:pt x="11" y="46"/>
                      <a:pt x="11" y="46"/>
                    </a:cubicBezTo>
                    <a:moveTo>
                      <a:pt x="4" y="0"/>
                    </a:moveTo>
                    <a:cubicBezTo>
                      <a:pt x="2" y="0"/>
                      <a:pt x="0" y="3"/>
                      <a:pt x="0" y="8"/>
                    </a:cubicBezTo>
                    <a:cubicBezTo>
                      <a:pt x="0" y="39"/>
                      <a:pt x="0" y="39"/>
                      <a:pt x="0" y="39"/>
                    </a:cubicBezTo>
                    <a:cubicBezTo>
                      <a:pt x="9" y="43"/>
                      <a:pt x="9" y="43"/>
                      <a:pt x="9" y="43"/>
                    </a:cubicBezTo>
                    <a:cubicBezTo>
                      <a:pt x="9" y="43"/>
                      <a:pt x="9" y="43"/>
                      <a:pt x="9" y="43"/>
                    </a:cubicBezTo>
                    <a:cubicBezTo>
                      <a:pt x="9" y="42"/>
                      <a:pt x="9" y="41"/>
                      <a:pt x="9" y="41"/>
                    </a:cubicBezTo>
                    <a:cubicBezTo>
                      <a:pt x="9" y="40"/>
                      <a:pt x="9" y="40"/>
                      <a:pt x="9" y="40"/>
                    </a:cubicBezTo>
                    <a:cubicBezTo>
                      <a:pt x="8" y="38"/>
                      <a:pt x="8" y="37"/>
                      <a:pt x="8" y="35"/>
                    </a:cubicBezTo>
                    <a:cubicBezTo>
                      <a:pt x="8" y="32"/>
                      <a:pt x="9" y="30"/>
                      <a:pt x="11" y="30"/>
                    </a:cubicBezTo>
                    <a:cubicBezTo>
                      <a:pt x="11" y="30"/>
                      <a:pt x="12" y="30"/>
                      <a:pt x="12" y="30"/>
                    </a:cubicBezTo>
                    <a:cubicBezTo>
                      <a:pt x="14" y="31"/>
                      <a:pt x="16" y="35"/>
                      <a:pt x="16" y="39"/>
                    </a:cubicBezTo>
                    <a:cubicBezTo>
                      <a:pt x="16" y="40"/>
                      <a:pt x="16" y="41"/>
                      <a:pt x="15" y="42"/>
                    </a:cubicBezTo>
                    <a:cubicBezTo>
                      <a:pt x="15" y="43"/>
                      <a:pt x="15" y="43"/>
                      <a:pt x="15" y="43"/>
                    </a:cubicBezTo>
                    <a:cubicBezTo>
                      <a:pt x="15" y="44"/>
                      <a:pt x="14" y="44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24" y="49"/>
                      <a:pt x="24" y="49"/>
                      <a:pt x="24" y="49"/>
                    </a:cubicBezTo>
                    <a:cubicBezTo>
                      <a:pt x="24" y="33"/>
                      <a:pt x="24" y="33"/>
                      <a:pt x="24" y="33"/>
                    </a:cubicBezTo>
                    <a:cubicBezTo>
                      <a:pt x="24" y="33"/>
                      <a:pt x="24" y="33"/>
                      <a:pt x="24" y="33"/>
                    </a:cubicBezTo>
                    <a:cubicBezTo>
                      <a:pt x="24" y="33"/>
                      <a:pt x="24" y="33"/>
                      <a:pt x="24" y="33"/>
                    </a:cubicBezTo>
                    <a:cubicBezTo>
                      <a:pt x="23" y="33"/>
                      <a:pt x="23" y="33"/>
                      <a:pt x="23" y="33"/>
                    </a:cubicBezTo>
                    <a:cubicBezTo>
                      <a:pt x="22" y="33"/>
                      <a:pt x="22" y="33"/>
                      <a:pt x="22" y="33"/>
                    </a:cubicBezTo>
                    <a:cubicBezTo>
                      <a:pt x="22" y="34"/>
                      <a:pt x="21" y="34"/>
                      <a:pt x="21" y="34"/>
                    </a:cubicBezTo>
                    <a:cubicBezTo>
                      <a:pt x="21" y="34"/>
                      <a:pt x="20" y="34"/>
                      <a:pt x="20" y="34"/>
                    </a:cubicBezTo>
                    <a:cubicBezTo>
                      <a:pt x="18" y="33"/>
                      <a:pt x="16" y="29"/>
                      <a:pt x="16" y="25"/>
                    </a:cubicBezTo>
                    <a:cubicBezTo>
                      <a:pt x="16" y="22"/>
                      <a:pt x="17" y="19"/>
                      <a:pt x="19" y="19"/>
                    </a:cubicBezTo>
                    <a:cubicBezTo>
                      <a:pt x="19" y="19"/>
                      <a:pt x="20" y="19"/>
                      <a:pt x="20" y="20"/>
                    </a:cubicBezTo>
                    <a:cubicBezTo>
                      <a:pt x="21" y="20"/>
                      <a:pt x="22" y="21"/>
                      <a:pt x="22" y="22"/>
                    </a:cubicBezTo>
                    <a:cubicBezTo>
                      <a:pt x="23" y="23"/>
                      <a:pt x="23" y="23"/>
                      <a:pt x="23" y="23"/>
                    </a:cubicBezTo>
                    <a:cubicBezTo>
                      <a:pt x="23" y="23"/>
                      <a:pt x="23" y="23"/>
                      <a:pt x="24" y="24"/>
                    </a:cubicBezTo>
                    <a:cubicBezTo>
                      <a:pt x="24" y="24"/>
                      <a:pt x="24" y="24"/>
                      <a:pt x="24" y="24"/>
                    </a:cubicBezTo>
                    <a:cubicBezTo>
                      <a:pt x="24" y="23"/>
                      <a:pt x="24" y="23"/>
                      <a:pt x="24" y="23"/>
                    </a:cubicBezTo>
                    <a:cubicBezTo>
                      <a:pt x="24" y="7"/>
                      <a:pt x="24" y="7"/>
                      <a:pt x="24" y="7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5" y="0"/>
                      <a:pt x="5" y="0"/>
                      <a:pt x="4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16"/>
              <p:cNvSpPr/>
              <p:nvPr/>
            </p:nvSpPr>
            <p:spPr>
              <a:xfrm>
                <a:off x="623880" y="909720"/>
                <a:ext cx="2394360" cy="871560"/>
              </a:xfrm>
              <a:custGeom>
                <a:avLst/>
                <a:gdLst>
                  <a:gd name="textAreaLeft" fmla="*/ 0 w 2394360"/>
                  <a:gd name="textAreaRight" fmla="*/ 2394720 w 2394360"/>
                  <a:gd name="textAreaTop" fmla="*/ 0 h 871560"/>
                  <a:gd name="textAreaBottom" fmla="*/ 871920 h 871560"/>
                </a:gdLst>
                <a:ahLst/>
                <a:rect l="textAreaLeft" t="textAreaTop" r="textAreaRight" b="textAreaBottom"/>
                <a:pathLst>
                  <a:path w="906" h="388">
                    <a:moveTo>
                      <a:pt x="453" y="0"/>
                    </a:moveTo>
                    <a:lnTo>
                      <a:pt x="0" y="194"/>
                    </a:lnTo>
                    <a:lnTo>
                      <a:pt x="453" y="388"/>
                    </a:lnTo>
                    <a:lnTo>
                      <a:pt x="906" y="194"/>
                    </a:lnTo>
                    <a:lnTo>
                      <a:pt x="453" y="0"/>
                    </a:lnTo>
                    <a:close/>
                  </a:path>
                </a:pathLst>
              </a:custGeom>
              <a:solidFill>
                <a:srgbClr val="fde3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3" name="Text Box 25"/>
            <p:cNvSpPr/>
            <p:nvPr/>
          </p:nvSpPr>
          <p:spPr>
            <a:xfrm rot="20220000">
              <a:off x="1711440" y="1594440"/>
              <a:ext cx="170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第三方支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2"/>
          <p:cNvGrpSpPr/>
          <p:nvPr/>
        </p:nvGrpSpPr>
        <p:grpSpPr>
          <a:xfrm>
            <a:off x="47520" y="44280"/>
            <a:ext cx="2833200" cy="1442520"/>
            <a:chOff x="47520" y="44280"/>
            <a:chExt cx="2833200" cy="1442520"/>
          </a:xfrm>
        </p:grpSpPr>
        <p:grpSp>
          <p:nvGrpSpPr>
            <p:cNvPr id="235" name="Group 3"/>
            <p:cNvGrpSpPr/>
            <p:nvPr/>
          </p:nvGrpSpPr>
          <p:grpSpPr>
            <a:xfrm>
              <a:off x="47520" y="44280"/>
              <a:ext cx="2410560" cy="1441800"/>
              <a:chOff x="47520" y="44280"/>
              <a:chExt cx="2410560" cy="1441800"/>
            </a:xfrm>
          </p:grpSpPr>
          <p:sp>
            <p:nvSpPr>
              <p:cNvPr id="236" name="Freeform 17"/>
              <p:cNvSpPr/>
              <p:nvPr/>
            </p:nvSpPr>
            <p:spPr>
              <a:xfrm>
                <a:off x="1253880" y="462960"/>
                <a:ext cx="1203840" cy="1023120"/>
              </a:xfrm>
              <a:custGeom>
                <a:avLst/>
                <a:gdLst>
                  <a:gd name="textAreaLeft" fmla="*/ 0 w 1203840"/>
                  <a:gd name="textAreaRight" fmla="*/ 1204200 w 1203840"/>
                  <a:gd name="textAreaTop" fmla="*/ 0 h 1023120"/>
                  <a:gd name="textAreaBottom" fmla="*/ 1023480 h 1023120"/>
                </a:gdLst>
                <a:ahLst/>
                <a:rect l="textAreaLeft" t="textAreaTop" r="textAreaRight" b="textAreaBottom"/>
                <a:pathLst>
                  <a:path w="453" h="474">
                    <a:moveTo>
                      <a:pt x="453" y="0"/>
                    </a:moveTo>
                    <a:lnTo>
                      <a:pt x="0" y="194"/>
                    </a:lnTo>
                    <a:lnTo>
                      <a:pt x="0" y="474"/>
                    </a:lnTo>
                    <a:lnTo>
                      <a:pt x="453" y="277"/>
                    </a:lnTo>
                    <a:lnTo>
                      <a:pt x="453" y="0"/>
                    </a:lnTo>
                    <a:close/>
                  </a:path>
                </a:pathLst>
              </a:custGeom>
              <a:solidFill>
                <a:srgbClr val="f49c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18"/>
              <p:cNvSpPr/>
              <p:nvPr/>
            </p:nvSpPr>
            <p:spPr>
              <a:xfrm>
                <a:off x="47520" y="462960"/>
                <a:ext cx="1206360" cy="1023120"/>
              </a:xfrm>
              <a:custGeom>
                <a:avLst/>
                <a:gdLst>
                  <a:gd name="textAreaLeft" fmla="*/ 0 w 1206360"/>
                  <a:gd name="textAreaRight" fmla="*/ 1206720 w 1206360"/>
                  <a:gd name="textAreaTop" fmla="*/ 0 h 1023120"/>
                  <a:gd name="textAreaBottom" fmla="*/ 1023480 h 1023120"/>
                </a:gdLst>
                <a:ahLst/>
                <a:rect l="textAreaLeft" t="textAreaTop" r="textAreaRight" b="textAreaBottom"/>
                <a:pathLst>
                  <a:path w="453" h="474">
                    <a:moveTo>
                      <a:pt x="0" y="0"/>
                    </a:moveTo>
                    <a:lnTo>
                      <a:pt x="453" y="194"/>
                    </a:lnTo>
                    <a:lnTo>
                      <a:pt x="453" y="474"/>
                    </a:lnTo>
                    <a:lnTo>
                      <a:pt x="0" y="27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6ac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20"/>
              <p:cNvSpPr/>
              <p:nvPr/>
            </p:nvSpPr>
            <p:spPr>
              <a:xfrm>
                <a:off x="47520" y="44280"/>
                <a:ext cx="2410560" cy="837000"/>
              </a:xfrm>
              <a:custGeom>
                <a:avLst/>
                <a:gdLst>
                  <a:gd name="textAreaLeft" fmla="*/ 0 w 2410560"/>
                  <a:gd name="textAreaRight" fmla="*/ 2410920 w 2410560"/>
                  <a:gd name="textAreaTop" fmla="*/ 0 h 837000"/>
                  <a:gd name="textAreaBottom" fmla="*/ 837360 h 837000"/>
                </a:gdLst>
                <a:ahLst/>
                <a:rect l="textAreaLeft" t="textAreaTop" r="textAreaRight" b="textAreaBottom"/>
                <a:pathLst>
                  <a:path w="906" h="388">
                    <a:moveTo>
                      <a:pt x="453" y="0"/>
                    </a:moveTo>
                    <a:lnTo>
                      <a:pt x="0" y="194"/>
                    </a:lnTo>
                    <a:lnTo>
                      <a:pt x="453" y="388"/>
                    </a:lnTo>
                    <a:lnTo>
                      <a:pt x="906" y="194"/>
                    </a:lnTo>
                    <a:lnTo>
                      <a:pt x="453" y="0"/>
                    </a:lnTo>
                    <a:close/>
                  </a:path>
                </a:pathLst>
              </a:custGeom>
              <a:solidFill>
                <a:srgbClr val="fdf1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43"/>
              <p:cNvSpPr/>
              <p:nvPr/>
            </p:nvSpPr>
            <p:spPr>
              <a:xfrm>
                <a:off x="464400" y="697680"/>
                <a:ext cx="441360" cy="540720"/>
              </a:xfrm>
              <a:custGeom>
                <a:avLst/>
                <a:gdLst>
                  <a:gd name="textAreaLeft" fmla="*/ 0 w 441360"/>
                  <a:gd name="textAreaRight" fmla="*/ 441720 w 441360"/>
                  <a:gd name="textAreaTop" fmla="*/ 0 h 540720"/>
                  <a:gd name="textAreaBottom" fmla="*/ 541080 h 540720"/>
                </a:gdLst>
                <a:ahLst/>
                <a:rect l="textAreaLeft" t="textAreaTop" r="textAreaRight" b="textAreaBottom"/>
                <a:pathLst>
                  <a:path w="70" h="106">
                    <a:moveTo>
                      <a:pt x="63" y="23"/>
                    </a:moveTo>
                    <a:cubicBezTo>
                      <a:pt x="51" y="38"/>
                      <a:pt x="51" y="38"/>
                      <a:pt x="51" y="38"/>
                    </a:cubicBezTo>
                    <a:cubicBezTo>
                      <a:pt x="42" y="25"/>
                      <a:pt x="42" y="25"/>
                      <a:pt x="42" y="25"/>
                    </a:cubicBezTo>
                    <a:cubicBezTo>
                      <a:pt x="42" y="24"/>
                      <a:pt x="42" y="24"/>
                      <a:pt x="42" y="24"/>
                    </a:cubicBezTo>
                    <a:cubicBezTo>
                      <a:pt x="41" y="25"/>
                      <a:pt x="41" y="25"/>
                      <a:pt x="41" y="25"/>
                    </a:cubicBezTo>
                    <a:cubicBezTo>
                      <a:pt x="33" y="35"/>
                      <a:pt x="33" y="35"/>
                      <a:pt x="33" y="35"/>
                    </a:cubicBezTo>
                    <a:cubicBezTo>
                      <a:pt x="34" y="37"/>
                      <a:pt x="34" y="37"/>
                      <a:pt x="34" y="37"/>
                    </a:cubicBezTo>
                    <a:cubicBezTo>
                      <a:pt x="42" y="28"/>
                      <a:pt x="42" y="28"/>
                      <a:pt x="42" y="28"/>
                    </a:cubicBezTo>
                    <a:cubicBezTo>
                      <a:pt x="51" y="40"/>
                      <a:pt x="51" y="40"/>
                      <a:pt x="51" y="40"/>
                    </a:cubicBezTo>
                    <a:cubicBezTo>
                      <a:pt x="51" y="41"/>
                      <a:pt x="51" y="41"/>
                      <a:pt x="51" y="41"/>
                    </a:cubicBezTo>
                    <a:cubicBezTo>
                      <a:pt x="52" y="41"/>
                      <a:pt x="52" y="41"/>
                      <a:pt x="52" y="41"/>
                    </a:cubicBezTo>
                    <a:cubicBezTo>
                      <a:pt x="64" y="26"/>
                      <a:pt x="64" y="26"/>
                      <a:pt x="64" y="26"/>
                    </a:cubicBezTo>
                    <a:lnTo>
                      <a:pt x="63" y="23"/>
                    </a:lnTo>
                    <a:close/>
                    <a:moveTo>
                      <a:pt x="18" y="13"/>
                    </a:moveTo>
                    <a:cubicBezTo>
                      <a:pt x="13" y="10"/>
                      <a:pt x="8" y="16"/>
                      <a:pt x="8" y="26"/>
                    </a:cubicBezTo>
                    <a:cubicBezTo>
                      <a:pt x="8" y="33"/>
                      <a:pt x="10" y="39"/>
                      <a:pt x="13" y="43"/>
                    </a:cubicBezTo>
                    <a:cubicBezTo>
                      <a:pt x="10" y="45"/>
                      <a:pt x="7" y="48"/>
                      <a:pt x="5" y="52"/>
                    </a:cubicBezTo>
                    <a:cubicBezTo>
                      <a:pt x="29" y="62"/>
                      <a:pt x="29" y="62"/>
                      <a:pt x="29" y="62"/>
                    </a:cubicBezTo>
                    <a:cubicBezTo>
                      <a:pt x="29" y="98"/>
                      <a:pt x="29" y="98"/>
                      <a:pt x="29" y="98"/>
                    </a:cubicBezTo>
                    <a:cubicBezTo>
                      <a:pt x="47" y="78"/>
                      <a:pt x="47" y="78"/>
                      <a:pt x="47" y="78"/>
                    </a:cubicBezTo>
                    <a:cubicBezTo>
                      <a:pt x="49" y="76"/>
                      <a:pt x="48" y="72"/>
                      <a:pt x="47" y="68"/>
                    </a:cubicBezTo>
                    <a:cubicBezTo>
                      <a:pt x="46" y="67"/>
                      <a:pt x="45" y="66"/>
                      <a:pt x="44" y="66"/>
                    </a:cubicBezTo>
                    <a:cubicBezTo>
                      <a:pt x="43" y="65"/>
                      <a:pt x="42" y="65"/>
                      <a:pt x="41" y="67"/>
                    </a:cubicBezTo>
                    <a:cubicBezTo>
                      <a:pt x="33" y="73"/>
                      <a:pt x="33" y="73"/>
                      <a:pt x="33" y="73"/>
                    </a:cubicBezTo>
                    <a:cubicBezTo>
                      <a:pt x="32" y="65"/>
                      <a:pt x="29" y="56"/>
                      <a:pt x="24" y="48"/>
                    </a:cubicBezTo>
                    <a:cubicBezTo>
                      <a:pt x="27" y="46"/>
                      <a:pt x="29" y="41"/>
                      <a:pt x="29" y="35"/>
                    </a:cubicBezTo>
                    <a:cubicBezTo>
                      <a:pt x="29" y="25"/>
                      <a:pt x="24" y="15"/>
                      <a:pt x="18" y="13"/>
                    </a:cubicBezTo>
                    <a:close/>
                    <a:moveTo>
                      <a:pt x="28" y="64"/>
                    </a:moveTo>
                    <a:cubicBezTo>
                      <a:pt x="0" y="52"/>
                      <a:pt x="0" y="52"/>
                      <a:pt x="0" y="52"/>
                    </a:cubicBezTo>
                    <a:cubicBezTo>
                      <a:pt x="0" y="94"/>
                      <a:pt x="0" y="94"/>
                      <a:pt x="0" y="94"/>
                    </a:cubicBezTo>
                    <a:cubicBezTo>
                      <a:pt x="3" y="96"/>
                      <a:pt x="3" y="96"/>
                      <a:pt x="3" y="96"/>
                    </a:cubicBezTo>
                    <a:cubicBezTo>
                      <a:pt x="3" y="59"/>
                      <a:pt x="3" y="59"/>
                      <a:pt x="3" y="59"/>
                    </a:cubicBezTo>
                    <a:cubicBezTo>
                      <a:pt x="25" y="68"/>
                      <a:pt x="25" y="68"/>
                      <a:pt x="25" y="68"/>
                    </a:cubicBezTo>
                    <a:cubicBezTo>
                      <a:pt x="25" y="105"/>
                      <a:pt x="25" y="105"/>
                      <a:pt x="25" y="105"/>
                    </a:cubicBezTo>
                    <a:cubicBezTo>
                      <a:pt x="28" y="106"/>
                      <a:pt x="28" y="106"/>
                      <a:pt x="28" y="106"/>
                    </a:cubicBezTo>
                    <a:lnTo>
                      <a:pt x="28" y="64"/>
                    </a:lnTo>
                    <a:close/>
                    <a:moveTo>
                      <a:pt x="70" y="17"/>
                    </a:moveTo>
                    <a:cubicBezTo>
                      <a:pt x="27" y="0"/>
                      <a:pt x="27" y="0"/>
                      <a:pt x="27" y="0"/>
                    </a:cubicBezTo>
                    <a:cubicBezTo>
                      <a:pt x="27" y="16"/>
                      <a:pt x="27" y="16"/>
                      <a:pt x="27" y="16"/>
                    </a:cubicBezTo>
                    <a:cubicBezTo>
                      <a:pt x="28" y="18"/>
                      <a:pt x="29" y="21"/>
                      <a:pt x="30" y="23"/>
                    </a:cubicBezTo>
                    <a:cubicBezTo>
                      <a:pt x="30" y="6"/>
                      <a:pt x="30" y="6"/>
                      <a:pt x="30" y="6"/>
                    </a:cubicBezTo>
                    <a:cubicBezTo>
                      <a:pt x="67" y="21"/>
                      <a:pt x="67" y="21"/>
                      <a:pt x="67" y="21"/>
                    </a:cubicBezTo>
                    <a:cubicBezTo>
                      <a:pt x="67" y="53"/>
                      <a:pt x="67" y="53"/>
                      <a:pt x="67" y="53"/>
                    </a:cubicBezTo>
                    <a:cubicBezTo>
                      <a:pt x="32" y="39"/>
                      <a:pt x="32" y="39"/>
                      <a:pt x="32" y="39"/>
                    </a:cubicBezTo>
                    <a:cubicBezTo>
                      <a:pt x="32" y="40"/>
                      <a:pt x="31" y="42"/>
                      <a:pt x="31" y="44"/>
                    </a:cubicBezTo>
                    <a:cubicBezTo>
                      <a:pt x="47" y="50"/>
                      <a:pt x="47" y="50"/>
                      <a:pt x="47" y="50"/>
                    </a:cubicBezTo>
                    <a:cubicBezTo>
                      <a:pt x="47" y="54"/>
                      <a:pt x="47" y="54"/>
                      <a:pt x="47" y="54"/>
                    </a:cubicBezTo>
                    <a:cubicBezTo>
                      <a:pt x="43" y="52"/>
                      <a:pt x="43" y="52"/>
                      <a:pt x="43" y="52"/>
                    </a:cubicBezTo>
                    <a:cubicBezTo>
                      <a:pt x="43" y="57"/>
                      <a:pt x="43" y="57"/>
                      <a:pt x="43" y="57"/>
                    </a:cubicBezTo>
                    <a:cubicBezTo>
                      <a:pt x="55" y="63"/>
                      <a:pt x="55" y="63"/>
                      <a:pt x="55" y="63"/>
                    </a:cubicBezTo>
                    <a:cubicBezTo>
                      <a:pt x="55" y="57"/>
                      <a:pt x="55" y="57"/>
                      <a:pt x="55" y="57"/>
                    </a:cubicBezTo>
                    <a:cubicBezTo>
                      <a:pt x="50" y="55"/>
                      <a:pt x="50" y="55"/>
                      <a:pt x="50" y="55"/>
                    </a:cubicBezTo>
                    <a:cubicBezTo>
                      <a:pt x="50" y="52"/>
                      <a:pt x="50" y="52"/>
                      <a:pt x="50" y="52"/>
                    </a:cubicBezTo>
                    <a:cubicBezTo>
                      <a:pt x="70" y="60"/>
                      <a:pt x="70" y="60"/>
                      <a:pt x="70" y="60"/>
                    </a:cubicBezTo>
                    <a:lnTo>
                      <a:pt x="70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" name="Text Box 8"/>
            <p:cNvSpPr/>
            <p:nvPr/>
          </p:nvSpPr>
          <p:spPr>
            <a:xfrm rot="20220000">
              <a:off x="1143360" y="710280"/>
              <a:ext cx="171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消费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1" name="Picture 9" descr=""/>
          <p:cNvPicPr/>
          <p:nvPr/>
        </p:nvPicPr>
        <p:blipFill>
          <a:blip r:embed="rId1"/>
          <a:stretch/>
        </p:blipFill>
        <p:spPr>
          <a:xfrm>
            <a:off x="2136600" y="1270080"/>
            <a:ext cx="8180640" cy="456084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10"/>
          <p:cNvSpPr/>
          <p:nvPr/>
        </p:nvSpPr>
        <p:spPr>
          <a:xfrm>
            <a:off x="3863880" y="3286080"/>
            <a:ext cx="514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舒适、时尚、便捷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MH_Other_1"/>
          <p:cNvSpPr/>
          <p:nvPr/>
        </p:nvSpPr>
        <p:spPr>
          <a:xfrm rot="18746400">
            <a:off x="5430960" y="1723680"/>
            <a:ext cx="755640" cy="745920"/>
          </a:xfrm>
          <a:custGeom>
            <a:avLst/>
            <a:gdLst>
              <a:gd name="textAreaLeft" fmla="*/ 0 w 755640"/>
              <a:gd name="textAreaRight" fmla="*/ 756000 w 755640"/>
              <a:gd name="textAreaTop" fmla="*/ 0 h 745920"/>
              <a:gd name="textAreaBottom" fmla="*/ 746280 h 745920"/>
            </a:gdLst>
            <a:ahLst/>
            <a:rect l="textAreaLeft" t="textAreaTop" r="textAreaRight" b="textAreaBottom"/>
            <a:pathLst>
              <a:path fill="none" w="21600" h="21356">
                <a:moveTo>
                  <a:pt x="3237" y="-1"/>
                </a:moveTo>
                <a:cubicBezTo>
                  <a:pt x="13795" y="1600"/>
                  <a:pt x="21600" y="10676"/>
                  <a:pt x="21600" y="21356"/>
                </a:cubicBezTo>
              </a:path>
              <a:path stroke="0" w="21600" h="21356">
                <a:moveTo>
                  <a:pt x="3237" y="-1"/>
                </a:moveTo>
                <a:cubicBezTo>
                  <a:pt x="13795" y="1600"/>
                  <a:pt x="21600" y="10676"/>
                  <a:pt x="21600" y="21356"/>
                </a:cubicBezTo>
                <a:lnTo>
                  <a:pt x="0" y="21356"/>
                </a:lnTo>
                <a:lnTo>
                  <a:pt x="3237" y="-1"/>
                </a:lnTo>
                <a:close/>
              </a:path>
            </a:pathLst>
          </a:custGeom>
          <a:noFill/>
          <a:ln w="76320">
            <a:solidFill>
              <a:srgbClr val="ff7c8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MH_Other_2"/>
          <p:cNvSpPr/>
          <p:nvPr/>
        </p:nvSpPr>
        <p:spPr>
          <a:xfrm rot="21274800">
            <a:off x="5914800" y="2065320"/>
            <a:ext cx="1957320" cy="1959120"/>
          </a:xfrm>
          <a:custGeom>
            <a:avLst/>
            <a:gdLst>
              <a:gd name="textAreaLeft" fmla="*/ 0 w 1957320"/>
              <a:gd name="textAreaRight" fmla="*/ 1957680 w 1957320"/>
              <a:gd name="textAreaTop" fmla="*/ 0 h 1959120"/>
              <a:gd name="textAreaBottom" fmla="*/ 1959480 h 1959120"/>
            </a:gdLst>
            <a:ahLst/>
            <a:rect l="textAreaLeft" t="textAreaTop" r="textAreaRight" b="textAreaBottom"/>
            <a:pathLst>
              <a:path w="1816" h="1816">
                <a:moveTo>
                  <a:pt x="1816" y="978"/>
                </a:moveTo>
                <a:lnTo>
                  <a:pt x="1816" y="836"/>
                </a:lnTo>
                <a:lnTo>
                  <a:pt x="1710" y="836"/>
                </a:lnTo>
                <a:lnTo>
                  <a:pt x="1706" y="792"/>
                </a:lnTo>
                <a:lnTo>
                  <a:pt x="1698" y="750"/>
                </a:lnTo>
                <a:lnTo>
                  <a:pt x="1688" y="708"/>
                </a:lnTo>
                <a:lnTo>
                  <a:pt x="1678" y="666"/>
                </a:lnTo>
                <a:lnTo>
                  <a:pt x="1774" y="626"/>
                </a:lnTo>
                <a:lnTo>
                  <a:pt x="1718" y="494"/>
                </a:lnTo>
                <a:lnTo>
                  <a:pt x="1622" y="534"/>
                </a:lnTo>
                <a:lnTo>
                  <a:pt x="1602" y="496"/>
                </a:lnTo>
                <a:lnTo>
                  <a:pt x="1578" y="460"/>
                </a:lnTo>
                <a:lnTo>
                  <a:pt x="1552" y="424"/>
                </a:lnTo>
                <a:lnTo>
                  <a:pt x="1526" y="390"/>
                </a:lnTo>
                <a:lnTo>
                  <a:pt x="1600" y="316"/>
                </a:lnTo>
                <a:lnTo>
                  <a:pt x="1498" y="216"/>
                </a:lnTo>
                <a:lnTo>
                  <a:pt x="1426" y="290"/>
                </a:lnTo>
                <a:lnTo>
                  <a:pt x="1392" y="262"/>
                </a:lnTo>
                <a:lnTo>
                  <a:pt x="1356" y="236"/>
                </a:lnTo>
                <a:lnTo>
                  <a:pt x="1318" y="214"/>
                </a:lnTo>
                <a:lnTo>
                  <a:pt x="1280" y="192"/>
                </a:lnTo>
                <a:lnTo>
                  <a:pt x="1320" y="96"/>
                </a:lnTo>
                <a:lnTo>
                  <a:pt x="1188" y="42"/>
                </a:lnTo>
                <a:lnTo>
                  <a:pt x="1150" y="138"/>
                </a:lnTo>
                <a:lnTo>
                  <a:pt x="1108" y="126"/>
                </a:lnTo>
                <a:lnTo>
                  <a:pt x="1066" y="116"/>
                </a:lnTo>
                <a:lnTo>
                  <a:pt x="1022" y="110"/>
                </a:lnTo>
                <a:lnTo>
                  <a:pt x="978" y="104"/>
                </a:lnTo>
                <a:lnTo>
                  <a:pt x="978" y="0"/>
                </a:lnTo>
                <a:lnTo>
                  <a:pt x="836" y="0"/>
                </a:lnTo>
                <a:lnTo>
                  <a:pt x="836" y="104"/>
                </a:lnTo>
                <a:lnTo>
                  <a:pt x="792" y="110"/>
                </a:lnTo>
                <a:lnTo>
                  <a:pt x="750" y="116"/>
                </a:lnTo>
                <a:lnTo>
                  <a:pt x="706" y="126"/>
                </a:lnTo>
                <a:lnTo>
                  <a:pt x="666" y="138"/>
                </a:lnTo>
                <a:lnTo>
                  <a:pt x="626" y="42"/>
                </a:lnTo>
                <a:lnTo>
                  <a:pt x="494" y="96"/>
                </a:lnTo>
                <a:lnTo>
                  <a:pt x="534" y="192"/>
                </a:lnTo>
                <a:lnTo>
                  <a:pt x="496" y="214"/>
                </a:lnTo>
                <a:lnTo>
                  <a:pt x="460" y="236"/>
                </a:lnTo>
                <a:lnTo>
                  <a:pt x="424" y="262"/>
                </a:lnTo>
                <a:lnTo>
                  <a:pt x="390" y="290"/>
                </a:lnTo>
                <a:lnTo>
                  <a:pt x="316" y="216"/>
                </a:lnTo>
                <a:lnTo>
                  <a:pt x="216" y="316"/>
                </a:lnTo>
                <a:lnTo>
                  <a:pt x="288" y="390"/>
                </a:lnTo>
                <a:lnTo>
                  <a:pt x="262" y="424"/>
                </a:lnTo>
                <a:lnTo>
                  <a:pt x="236" y="460"/>
                </a:lnTo>
                <a:lnTo>
                  <a:pt x="214" y="496"/>
                </a:lnTo>
                <a:lnTo>
                  <a:pt x="192" y="534"/>
                </a:lnTo>
                <a:lnTo>
                  <a:pt x="96" y="494"/>
                </a:lnTo>
                <a:lnTo>
                  <a:pt x="42" y="626"/>
                </a:lnTo>
                <a:lnTo>
                  <a:pt x="138" y="666"/>
                </a:lnTo>
                <a:lnTo>
                  <a:pt x="126" y="708"/>
                </a:lnTo>
                <a:lnTo>
                  <a:pt x="116" y="750"/>
                </a:lnTo>
                <a:lnTo>
                  <a:pt x="108" y="792"/>
                </a:lnTo>
                <a:lnTo>
                  <a:pt x="104" y="836"/>
                </a:lnTo>
                <a:lnTo>
                  <a:pt x="0" y="836"/>
                </a:lnTo>
                <a:lnTo>
                  <a:pt x="0" y="978"/>
                </a:lnTo>
                <a:lnTo>
                  <a:pt x="104" y="978"/>
                </a:lnTo>
                <a:lnTo>
                  <a:pt x="108" y="1022"/>
                </a:lnTo>
                <a:lnTo>
                  <a:pt x="116" y="1066"/>
                </a:lnTo>
                <a:lnTo>
                  <a:pt x="126" y="1108"/>
                </a:lnTo>
                <a:lnTo>
                  <a:pt x="138" y="1150"/>
                </a:lnTo>
                <a:lnTo>
                  <a:pt x="42" y="1190"/>
                </a:lnTo>
                <a:lnTo>
                  <a:pt x="96" y="1320"/>
                </a:lnTo>
                <a:lnTo>
                  <a:pt x="192" y="1280"/>
                </a:lnTo>
                <a:lnTo>
                  <a:pt x="214" y="1320"/>
                </a:lnTo>
                <a:lnTo>
                  <a:pt x="236" y="1356"/>
                </a:lnTo>
                <a:lnTo>
                  <a:pt x="262" y="1392"/>
                </a:lnTo>
                <a:lnTo>
                  <a:pt x="288" y="1426"/>
                </a:lnTo>
                <a:lnTo>
                  <a:pt x="216" y="1500"/>
                </a:lnTo>
                <a:lnTo>
                  <a:pt x="316" y="1600"/>
                </a:lnTo>
                <a:lnTo>
                  <a:pt x="390" y="1526"/>
                </a:lnTo>
                <a:lnTo>
                  <a:pt x="424" y="1554"/>
                </a:lnTo>
                <a:lnTo>
                  <a:pt x="460" y="1578"/>
                </a:lnTo>
                <a:lnTo>
                  <a:pt x="496" y="1602"/>
                </a:lnTo>
                <a:lnTo>
                  <a:pt x="534" y="1622"/>
                </a:lnTo>
                <a:lnTo>
                  <a:pt x="494" y="1718"/>
                </a:lnTo>
                <a:lnTo>
                  <a:pt x="626" y="1774"/>
                </a:lnTo>
                <a:lnTo>
                  <a:pt x="666" y="1678"/>
                </a:lnTo>
                <a:lnTo>
                  <a:pt x="706" y="1690"/>
                </a:lnTo>
                <a:lnTo>
                  <a:pt x="750" y="1698"/>
                </a:lnTo>
                <a:lnTo>
                  <a:pt x="792" y="1706"/>
                </a:lnTo>
                <a:lnTo>
                  <a:pt x="836" y="1712"/>
                </a:lnTo>
                <a:lnTo>
                  <a:pt x="836" y="1816"/>
                </a:lnTo>
                <a:lnTo>
                  <a:pt x="978" y="1816"/>
                </a:lnTo>
                <a:lnTo>
                  <a:pt x="978" y="1712"/>
                </a:lnTo>
                <a:lnTo>
                  <a:pt x="1022" y="1706"/>
                </a:lnTo>
                <a:lnTo>
                  <a:pt x="1066" y="1698"/>
                </a:lnTo>
                <a:lnTo>
                  <a:pt x="1108" y="1690"/>
                </a:lnTo>
                <a:lnTo>
                  <a:pt x="1150" y="1678"/>
                </a:lnTo>
                <a:lnTo>
                  <a:pt x="1188" y="1774"/>
                </a:lnTo>
                <a:lnTo>
                  <a:pt x="1320" y="1718"/>
                </a:lnTo>
                <a:lnTo>
                  <a:pt x="1280" y="1622"/>
                </a:lnTo>
                <a:lnTo>
                  <a:pt x="1318" y="1602"/>
                </a:lnTo>
                <a:lnTo>
                  <a:pt x="1356" y="1578"/>
                </a:lnTo>
                <a:lnTo>
                  <a:pt x="1392" y="1554"/>
                </a:lnTo>
                <a:lnTo>
                  <a:pt x="1426" y="1526"/>
                </a:lnTo>
                <a:lnTo>
                  <a:pt x="1498" y="1600"/>
                </a:lnTo>
                <a:lnTo>
                  <a:pt x="1600" y="1500"/>
                </a:lnTo>
                <a:lnTo>
                  <a:pt x="1526" y="1426"/>
                </a:lnTo>
                <a:lnTo>
                  <a:pt x="1552" y="1392"/>
                </a:lnTo>
                <a:lnTo>
                  <a:pt x="1578" y="1356"/>
                </a:lnTo>
                <a:lnTo>
                  <a:pt x="1602" y="1320"/>
                </a:lnTo>
                <a:lnTo>
                  <a:pt x="1622" y="1280"/>
                </a:lnTo>
                <a:lnTo>
                  <a:pt x="1718" y="1320"/>
                </a:lnTo>
                <a:lnTo>
                  <a:pt x="1774" y="1190"/>
                </a:lnTo>
                <a:lnTo>
                  <a:pt x="1678" y="1150"/>
                </a:lnTo>
                <a:lnTo>
                  <a:pt x="1688" y="1108"/>
                </a:lnTo>
                <a:lnTo>
                  <a:pt x="1698" y="1066"/>
                </a:lnTo>
                <a:lnTo>
                  <a:pt x="1706" y="1022"/>
                </a:lnTo>
                <a:lnTo>
                  <a:pt x="1710" y="978"/>
                </a:lnTo>
                <a:lnTo>
                  <a:pt x="1816" y="978"/>
                </a:lnTo>
                <a:close/>
                <a:moveTo>
                  <a:pt x="908" y="1614"/>
                </a:moveTo>
                <a:lnTo>
                  <a:pt x="908" y="1614"/>
                </a:lnTo>
                <a:lnTo>
                  <a:pt x="872" y="1612"/>
                </a:lnTo>
                <a:lnTo>
                  <a:pt x="836" y="1610"/>
                </a:lnTo>
                <a:lnTo>
                  <a:pt x="800" y="1606"/>
                </a:lnTo>
                <a:lnTo>
                  <a:pt x="766" y="1600"/>
                </a:lnTo>
                <a:lnTo>
                  <a:pt x="730" y="1592"/>
                </a:lnTo>
                <a:lnTo>
                  <a:pt x="698" y="1582"/>
                </a:lnTo>
                <a:lnTo>
                  <a:pt x="664" y="1570"/>
                </a:lnTo>
                <a:lnTo>
                  <a:pt x="632" y="1558"/>
                </a:lnTo>
                <a:lnTo>
                  <a:pt x="602" y="1544"/>
                </a:lnTo>
                <a:lnTo>
                  <a:pt x="570" y="1528"/>
                </a:lnTo>
                <a:lnTo>
                  <a:pt x="542" y="1512"/>
                </a:lnTo>
                <a:lnTo>
                  <a:pt x="512" y="1492"/>
                </a:lnTo>
                <a:lnTo>
                  <a:pt x="484" y="1474"/>
                </a:lnTo>
                <a:lnTo>
                  <a:pt x="458" y="1452"/>
                </a:lnTo>
                <a:lnTo>
                  <a:pt x="432" y="1430"/>
                </a:lnTo>
                <a:lnTo>
                  <a:pt x="408" y="1406"/>
                </a:lnTo>
                <a:lnTo>
                  <a:pt x="384" y="1382"/>
                </a:lnTo>
                <a:lnTo>
                  <a:pt x="362" y="1356"/>
                </a:lnTo>
                <a:lnTo>
                  <a:pt x="342" y="1330"/>
                </a:lnTo>
                <a:lnTo>
                  <a:pt x="322" y="1302"/>
                </a:lnTo>
                <a:lnTo>
                  <a:pt x="304" y="1274"/>
                </a:lnTo>
                <a:lnTo>
                  <a:pt x="286" y="1244"/>
                </a:lnTo>
                <a:lnTo>
                  <a:pt x="272" y="1214"/>
                </a:lnTo>
                <a:lnTo>
                  <a:pt x="256" y="1182"/>
                </a:lnTo>
                <a:lnTo>
                  <a:pt x="244" y="1150"/>
                </a:lnTo>
                <a:lnTo>
                  <a:pt x="234" y="1118"/>
                </a:lnTo>
                <a:lnTo>
                  <a:pt x="224" y="1084"/>
                </a:lnTo>
                <a:lnTo>
                  <a:pt x="216" y="1050"/>
                </a:lnTo>
                <a:lnTo>
                  <a:pt x="210" y="1016"/>
                </a:lnTo>
                <a:lnTo>
                  <a:pt x="206" y="980"/>
                </a:lnTo>
                <a:lnTo>
                  <a:pt x="202" y="944"/>
                </a:lnTo>
                <a:lnTo>
                  <a:pt x="202" y="908"/>
                </a:lnTo>
                <a:lnTo>
                  <a:pt x="202" y="872"/>
                </a:lnTo>
                <a:lnTo>
                  <a:pt x="206" y="836"/>
                </a:lnTo>
                <a:lnTo>
                  <a:pt x="210" y="800"/>
                </a:lnTo>
                <a:lnTo>
                  <a:pt x="216" y="766"/>
                </a:lnTo>
                <a:lnTo>
                  <a:pt x="224" y="732"/>
                </a:lnTo>
                <a:lnTo>
                  <a:pt x="234" y="698"/>
                </a:lnTo>
                <a:lnTo>
                  <a:pt x="244" y="664"/>
                </a:lnTo>
                <a:lnTo>
                  <a:pt x="256" y="632"/>
                </a:lnTo>
                <a:lnTo>
                  <a:pt x="272" y="602"/>
                </a:lnTo>
                <a:lnTo>
                  <a:pt x="286" y="572"/>
                </a:lnTo>
                <a:lnTo>
                  <a:pt x="304" y="542"/>
                </a:lnTo>
                <a:lnTo>
                  <a:pt x="322" y="512"/>
                </a:lnTo>
                <a:lnTo>
                  <a:pt x="342" y="486"/>
                </a:lnTo>
                <a:lnTo>
                  <a:pt x="362" y="458"/>
                </a:lnTo>
                <a:lnTo>
                  <a:pt x="384" y="432"/>
                </a:lnTo>
                <a:lnTo>
                  <a:pt x="408" y="408"/>
                </a:lnTo>
                <a:lnTo>
                  <a:pt x="432" y="386"/>
                </a:lnTo>
                <a:lnTo>
                  <a:pt x="458" y="362"/>
                </a:lnTo>
                <a:lnTo>
                  <a:pt x="484" y="342"/>
                </a:lnTo>
                <a:lnTo>
                  <a:pt x="512" y="322"/>
                </a:lnTo>
                <a:lnTo>
                  <a:pt x="542" y="304"/>
                </a:lnTo>
                <a:lnTo>
                  <a:pt x="570" y="286"/>
                </a:lnTo>
                <a:lnTo>
                  <a:pt x="602" y="272"/>
                </a:lnTo>
                <a:lnTo>
                  <a:pt x="632" y="258"/>
                </a:lnTo>
                <a:lnTo>
                  <a:pt x="664" y="244"/>
                </a:lnTo>
                <a:lnTo>
                  <a:pt x="698" y="234"/>
                </a:lnTo>
                <a:lnTo>
                  <a:pt x="730" y="224"/>
                </a:lnTo>
                <a:lnTo>
                  <a:pt x="766" y="216"/>
                </a:lnTo>
                <a:lnTo>
                  <a:pt x="800" y="210"/>
                </a:lnTo>
                <a:lnTo>
                  <a:pt x="836" y="206"/>
                </a:lnTo>
                <a:lnTo>
                  <a:pt x="872" y="202"/>
                </a:lnTo>
                <a:lnTo>
                  <a:pt x="908" y="202"/>
                </a:lnTo>
                <a:lnTo>
                  <a:pt x="944" y="202"/>
                </a:lnTo>
                <a:lnTo>
                  <a:pt x="980" y="206"/>
                </a:lnTo>
                <a:lnTo>
                  <a:pt x="1014" y="210"/>
                </a:lnTo>
                <a:lnTo>
                  <a:pt x="1050" y="216"/>
                </a:lnTo>
                <a:lnTo>
                  <a:pt x="1084" y="224"/>
                </a:lnTo>
                <a:lnTo>
                  <a:pt x="1118" y="234"/>
                </a:lnTo>
                <a:lnTo>
                  <a:pt x="1150" y="244"/>
                </a:lnTo>
                <a:lnTo>
                  <a:pt x="1182" y="258"/>
                </a:lnTo>
                <a:lnTo>
                  <a:pt x="1214" y="272"/>
                </a:lnTo>
                <a:lnTo>
                  <a:pt x="1244" y="286"/>
                </a:lnTo>
                <a:lnTo>
                  <a:pt x="1274" y="304"/>
                </a:lnTo>
                <a:lnTo>
                  <a:pt x="1302" y="322"/>
                </a:lnTo>
                <a:lnTo>
                  <a:pt x="1330" y="342"/>
                </a:lnTo>
                <a:lnTo>
                  <a:pt x="1356" y="362"/>
                </a:lnTo>
                <a:lnTo>
                  <a:pt x="1382" y="386"/>
                </a:lnTo>
                <a:lnTo>
                  <a:pt x="1406" y="408"/>
                </a:lnTo>
                <a:lnTo>
                  <a:pt x="1430" y="432"/>
                </a:lnTo>
                <a:lnTo>
                  <a:pt x="1452" y="458"/>
                </a:lnTo>
                <a:lnTo>
                  <a:pt x="1474" y="486"/>
                </a:lnTo>
                <a:lnTo>
                  <a:pt x="1492" y="512"/>
                </a:lnTo>
                <a:lnTo>
                  <a:pt x="1512" y="542"/>
                </a:lnTo>
                <a:lnTo>
                  <a:pt x="1528" y="572"/>
                </a:lnTo>
                <a:lnTo>
                  <a:pt x="1544" y="602"/>
                </a:lnTo>
                <a:lnTo>
                  <a:pt x="1558" y="632"/>
                </a:lnTo>
                <a:lnTo>
                  <a:pt x="1570" y="664"/>
                </a:lnTo>
                <a:lnTo>
                  <a:pt x="1582" y="698"/>
                </a:lnTo>
                <a:lnTo>
                  <a:pt x="1592" y="732"/>
                </a:lnTo>
                <a:lnTo>
                  <a:pt x="1598" y="766"/>
                </a:lnTo>
                <a:lnTo>
                  <a:pt x="1606" y="800"/>
                </a:lnTo>
                <a:lnTo>
                  <a:pt x="1610" y="836"/>
                </a:lnTo>
                <a:lnTo>
                  <a:pt x="1612" y="872"/>
                </a:lnTo>
                <a:lnTo>
                  <a:pt x="1614" y="908"/>
                </a:lnTo>
                <a:lnTo>
                  <a:pt x="1612" y="944"/>
                </a:lnTo>
                <a:lnTo>
                  <a:pt x="1610" y="980"/>
                </a:lnTo>
                <a:lnTo>
                  <a:pt x="1606" y="1016"/>
                </a:lnTo>
                <a:lnTo>
                  <a:pt x="1598" y="1050"/>
                </a:lnTo>
                <a:lnTo>
                  <a:pt x="1592" y="1084"/>
                </a:lnTo>
                <a:lnTo>
                  <a:pt x="1582" y="1118"/>
                </a:lnTo>
                <a:lnTo>
                  <a:pt x="1570" y="1150"/>
                </a:lnTo>
                <a:lnTo>
                  <a:pt x="1558" y="1182"/>
                </a:lnTo>
                <a:lnTo>
                  <a:pt x="1544" y="1214"/>
                </a:lnTo>
                <a:lnTo>
                  <a:pt x="1528" y="1244"/>
                </a:lnTo>
                <a:lnTo>
                  <a:pt x="1512" y="1274"/>
                </a:lnTo>
                <a:lnTo>
                  <a:pt x="1492" y="1302"/>
                </a:lnTo>
                <a:lnTo>
                  <a:pt x="1474" y="1330"/>
                </a:lnTo>
                <a:lnTo>
                  <a:pt x="1452" y="1356"/>
                </a:lnTo>
                <a:lnTo>
                  <a:pt x="1430" y="1382"/>
                </a:lnTo>
                <a:lnTo>
                  <a:pt x="1406" y="1406"/>
                </a:lnTo>
                <a:lnTo>
                  <a:pt x="1382" y="1430"/>
                </a:lnTo>
                <a:lnTo>
                  <a:pt x="1356" y="1452"/>
                </a:lnTo>
                <a:lnTo>
                  <a:pt x="1330" y="1474"/>
                </a:lnTo>
                <a:lnTo>
                  <a:pt x="1302" y="1492"/>
                </a:lnTo>
                <a:lnTo>
                  <a:pt x="1274" y="1512"/>
                </a:lnTo>
                <a:lnTo>
                  <a:pt x="1244" y="1528"/>
                </a:lnTo>
                <a:lnTo>
                  <a:pt x="1214" y="1544"/>
                </a:lnTo>
                <a:lnTo>
                  <a:pt x="1182" y="1558"/>
                </a:lnTo>
                <a:lnTo>
                  <a:pt x="1150" y="1570"/>
                </a:lnTo>
                <a:lnTo>
                  <a:pt x="1118" y="1582"/>
                </a:lnTo>
                <a:lnTo>
                  <a:pt x="1084" y="1592"/>
                </a:lnTo>
                <a:lnTo>
                  <a:pt x="1050" y="1600"/>
                </a:lnTo>
                <a:lnTo>
                  <a:pt x="1014" y="1606"/>
                </a:lnTo>
                <a:lnTo>
                  <a:pt x="980" y="1610"/>
                </a:lnTo>
                <a:lnTo>
                  <a:pt x="944" y="1612"/>
                </a:lnTo>
                <a:lnTo>
                  <a:pt x="908" y="1614"/>
                </a:lnTo>
                <a:close/>
              </a:path>
            </a:pathLst>
          </a:custGeom>
          <a:solidFill>
            <a:srgbClr val="cbcbc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MH_Other_5"/>
          <p:cNvSpPr/>
          <p:nvPr/>
        </p:nvSpPr>
        <p:spPr>
          <a:xfrm rot="21274800">
            <a:off x="6222600" y="2374560"/>
            <a:ext cx="1341360" cy="1341360"/>
          </a:xfrm>
          <a:prstGeom prst="ellipse">
            <a:avLst/>
          </a:prstGeom>
          <a:solidFill>
            <a:srgbClr val="358c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MH_Other_6"/>
          <p:cNvSpPr/>
          <p:nvPr/>
        </p:nvSpPr>
        <p:spPr>
          <a:xfrm rot="21274800">
            <a:off x="7024680" y="3627360"/>
            <a:ext cx="1714680" cy="1716120"/>
          </a:xfrm>
          <a:custGeom>
            <a:avLst/>
            <a:gdLst>
              <a:gd name="textAreaLeft" fmla="*/ 0 w 1714680"/>
              <a:gd name="textAreaRight" fmla="*/ 1715040 w 1714680"/>
              <a:gd name="textAreaTop" fmla="*/ 0 h 1716120"/>
              <a:gd name="textAreaBottom" fmla="*/ 1716480 h 1716120"/>
            </a:gdLst>
            <a:ahLst/>
            <a:rect l="textAreaLeft" t="textAreaTop" r="textAreaRight" b="textAreaBottom"/>
            <a:pathLst>
              <a:path w="1816" h="1816">
                <a:moveTo>
                  <a:pt x="1816" y="978"/>
                </a:moveTo>
                <a:lnTo>
                  <a:pt x="1816" y="836"/>
                </a:lnTo>
                <a:lnTo>
                  <a:pt x="1710" y="836"/>
                </a:lnTo>
                <a:lnTo>
                  <a:pt x="1706" y="792"/>
                </a:lnTo>
                <a:lnTo>
                  <a:pt x="1698" y="750"/>
                </a:lnTo>
                <a:lnTo>
                  <a:pt x="1688" y="708"/>
                </a:lnTo>
                <a:lnTo>
                  <a:pt x="1678" y="666"/>
                </a:lnTo>
                <a:lnTo>
                  <a:pt x="1774" y="626"/>
                </a:lnTo>
                <a:lnTo>
                  <a:pt x="1718" y="494"/>
                </a:lnTo>
                <a:lnTo>
                  <a:pt x="1622" y="534"/>
                </a:lnTo>
                <a:lnTo>
                  <a:pt x="1602" y="496"/>
                </a:lnTo>
                <a:lnTo>
                  <a:pt x="1578" y="460"/>
                </a:lnTo>
                <a:lnTo>
                  <a:pt x="1552" y="424"/>
                </a:lnTo>
                <a:lnTo>
                  <a:pt x="1526" y="390"/>
                </a:lnTo>
                <a:lnTo>
                  <a:pt x="1600" y="316"/>
                </a:lnTo>
                <a:lnTo>
                  <a:pt x="1498" y="216"/>
                </a:lnTo>
                <a:lnTo>
                  <a:pt x="1426" y="290"/>
                </a:lnTo>
                <a:lnTo>
                  <a:pt x="1392" y="262"/>
                </a:lnTo>
                <a:lnTo>
                  <a:pt x="1356" y="236"/>
                </a:lnTo>
                <a:lnTo>
                  <a:pt x="1318" y="214"/>
                </a:lnTo>
                <a:lnTo>
                  <a:pt x="1280" y="192"/>
                </a:lnTo>
                <a:lnTo>
                  <a:pt x="1320" y="96"/>
                </a:lnTo>
                <a:lnTo>
                  <a:pt x="1188" y="42"/>
                </a:lnTo>
                <a:lnTo>
                  <a:pt x="1150" y="138"/>
                </a:lnTo>
                <a:lnTo>
                  <a:pt x="1108" y="126"/>
                </a:lnTo>
                <a:lnTo>
                  <a:pt x="1066" y="116"/>
                </a:lnTo>
                <a:lnTo>
                  <a:pt x="1022" y="110"/>
                </a:lnTo>
                <a:lnTo>
                  <a:pt x="978" y="104"/>
                </a:lnTo>
                <a:lnTo>
                  <a:pt x="978" y="0"/>
                </a:lnTo>
                <a:lnTo>
                  <a:pt x="836" y="0"/>
                </a:lnTo>
                <a:lnTo>
                  <a:pt x="836" y="104"/>
                </a:lnTo>
                <a:lnTo>
                  <a:pt x="792" y="110"/>
                </a:lnTo>
                <a:lnTo>
                  <a:pt x="750" y="116"/>
                </a:lnTo>
                <a:lnTo>
                  <a:pt x="706" y="126"/>
                </a:lnTo>
                <a:lnTo>
                  <a:pt x="666" y="138"/>
                </a:lnTo>
                <a:lnTo>
                  <a:pt x="626" y="42"/>
                </a:lnTo>
                <a:lnTo>
                  <a:pt x="494" y="96"/>
                </a:lnTo>
                <a:lnTo>
                  <a:pt x="534" y="192"/>
                </a:lnTo>
                <a:lnTo>
                  <a:pt x="496" y="214"/>
                </a:lnTo>
                <a:lnTo>
                  <a:pt x="460" y="236"/>
                </a:lnTo>
                <a:lnTo>
                  <a:pt x="424" y="262"/>
                </a:lnTo>
                <a:lnTo>
                  <a:pt x="390" y="290"/>
                </a:lnTo>
                <a:lnTo>
                  <a:pt x="316" y="216"/>
                </a:lnTo>
                <a:lnTo>
                  <a:pt x="216" y="316"/>
                </a:lnTo>
                <a:lnTo>
                  <a:pt x="288" y="390"/>
                </a:lnTo>
                <a:lnTo>
                  <a:pt x="262" y="424"/>
                </a:lnTo>
                <a:lnTo>
                  <a:pt x="236" y="460"/>
                </a:lnTo>
                <a:lnTo>
                  <a:pt x="214" y="496"/>
                </a:lnTo>
                <a:lnTo>
                  <a:pt x="192" y="534"/>
                </a:lnTo>
                <a:lnTo>
                  <a:pt x="96" y="494"/>
                </a:lnTo>
                <a:lnTo>
                  <a:pt x="42" y="626"/>
                </a:lnTo>
                <a:lnTo>
                  <a:pt x="138" y="666"/>
                </a:lnTo>
                <a:lnTo>
                  <a:pt x="126" y="708"/>
                </a:lnTo>
                <a:lnTo>
                  <a:pt x="116" y="750"/>
                </a:lnTo>
                <a:lnTo>
                  <a:pt x="108" y="792"/>
                </a:lnTo>
                <a:lnTo>
                  <a:pt x="104" y="836"/>
                </a:lnTo>
                <a:lnTo>
                  <a:pt x="0" y="836"/>
                </a:lnTo>
                <a:lnTo>
                  <a:pt x="0" y="978"/>
                </a:lnTo>
                <a:lnTo>
                  <a:pt x="104" y="978"/>
                </a:lnTo>
                <a:lnTo>
                  <a:pt x="108" y="1022"/>
                </a:lnTo>
                <a:lnTo>
                  <a:pt x="116" y="1066"/>
                </a:lnTo>
                <a:lnTo>
                  <a:pt x="126" y="1108"/>
                </a:lnTo>
                <a:lnTo>
                  <a:pt x="138" y="1150"/>
                </a:lnTo>
                <a:lnTo>
                  <a:pt x="42" y="1190"/>
                </a:lnTo>
                <a:lnTo>
                  <a:pt x="96" y="1320"/>
                </a:lnTo>
                <a:lnTo>
                  <a:pt x="192" y="1280"/>
                </a:lnTo>
                <a:lnTo>
                  <a:pt x="214" y="1320"/>
                </a:lnTo>
                <a:lnTo>
                  <a:pt x="236" y="1356"/>
                </a:lnTo>
                <a:lnTo>
                  <a:pt x="262" y="1392"/>
                </a:lnTo>
                <a:lnTo>
                  <a:pt x="288" y="1426"/>
                </a:lnTo>
                <a:lnTo>
                  <a:pt x="216" y="1500"/>
                </a:lnTo>
                <a:lnTo>
                  <a:pt x="316" y="1600"/>
                </a:lnTo>
                <a:lnTo>
                  <a:pt x="390" y="1526"/>
                </a:lnTo>
                <a:lnTo>
                  <a:pt x="424" y="1554"/>
                </a:lnTo>
                <a:lnTo>
                  <a:pt x="460" y="1578"/>
                </a:lnTo>
                <a:lnTo>
                  <a:pt x="496" y="1602"/>
                </a:lnTo>
                <a:lnTo>
                  <a:pt x="534" y="1622"/>
                </a:lnTo>
                <a:lnTo>
                  <a:pt x="494" y="1718"/>
                </a:lnTo>
                <a:lnTo>
                  <a:pt x="626" y="1774"/>
                </a:lnTo>
                <a:lnTo>
                  <a:pt x="666" y="1678"/>
                </a:lnTo>
                <a:lnTo>
                  <a:pt x="706" y="1690"/>
                </a:lnTo>
                <a:lnTo>
                  <a:pt x="750" y="1698"/>
                </a:lnTo>
                <a:lnTo>
                  <a:pt x="792" y="1706"/>
                </a:lnTo>
                <a:lnTo>
                  <a:pt x="836" y="1712"/>
                </a:lnTo>
                <a:lnTo>
                  <a:pt x="836" y="1816"/>
                </a:lnTo>
                <a:lnTo>
                  <a:pt x="978" y="1816"/>
                </a:lnTo>
                <a:lnTo>
                  <a:pt x="978" y="1712"/>
                </a:lnTo>
                <a:lnTo>
                  <a:pt x="1022" y="1706"/>
                </a:lnTo>
                <a:lnTo>
                  <a:pt x="1066" y="1698"/>
                </a:lnTo>
                <a:lnTo>
                  <a:pt x="1108" y="1690"/>
                </a:lnTo>
                <a:lnTo>
                  <a:pt x="1150" y="1678"/>
                </a:lnTo>
                <a:lnTo>
                  <a:pt x="1188" y="1774"/>
                </a:lnTo>
                <a:lnTo>
                  <a:pt x="1320" y="1718"/>
                </a:lnTo>
                <a:lnTo>
                  <a:pt x="1280" y="1622"/>
                </a:lnTo>
                <a:lnTo>
                  <a:pt x="1318" y="1602"/>
                </a:lnTo>
                <a:lnTo>
                  <a:pt x="1356" y="1578"/>
                </a:lnTo>
                <a:lnTo>
                  <a:pt x="1392" y="1554"/>
                </a:lnTo>
                <a:lnTo>
                  <a:pt x="1426" y="1526"/>
                </a:lnTo>
                <a:lnTo>
                  <a:pt x="1498" y="1600"/>
                </a:lnTo>
                <a:lnTo>
                  <a:pt x="1600" y="1500"/>
                </a:lnTo>
                <a:lnTo>
                  <a:pt x="1526" y="1426"/>
                </a:lnTo>
                <a:lnTo>
                  <a:pt x="1552" y="1392"/>
                </a:lnTo>
                <a:lnTo>
                  <a:pt x="1578" y="1356"/>
                </a:lnTo>
                <a:lnTo>
                  <a:pt x="1602" y="1320"/>
                </a:lnTo>
                <a:lnTo>
                  <a:pt x="1622" y="1280"/>
                </a:lnTo>
                <a:lnTo>
                  <a:pt x="1718" y="1320"/>
                </a:lnTo>
                <a:lnTo>
                  <a:pt x="1774" y="1190"/>
                </a:lnTo>
                <a:lnTo>
                  <a:pt x="1678" y="1150"/>
                </a:lnTo>
                <a:lnTo>
                  <a:pt x="1688" y="1108"/>
                </a:lnTo>
                <a:lnTo>
                  <a:pt x="1698" y="1066"/>
                </a:lnTo>
                <a:lnTo>
                  <a:pt x="1706" y="1022"/>
                </a:lnTo>
                <a:lnTo>
                  <a:pt x="1710" y="978"/>
                </a:lnTo>
                <a:lnTo>
                  <a:pt x="1816" y="978"/>
                </a:lnTo>
                <a:close/>
                <a:moveTo>
                  <a:pt x="908" y="1614"/>
                </a:moveTo>
                <a:lnTo>
                  <a:pt x="908" y="1614"/>
                </a:lnTo>
                <a:lnTo>
                  <a:pt x="872" y="1612"/>
                </a:lnTo>
                <a:lnTo>
                  <a:pt x="836" y="1610"/>
                </a:lnTo>
                <a:lnTo>
                  <a:pt x="800" y="1606"/>
                </a:lnTo>
                <a:lnTo>
                  <a:pt x="766" y="1600"/>
                </a:lnTo>
                <a:lnTo>
                  <a:pt x="730" y="1592"/>
                </a:lnTo>
                <a:lnTo>
                  <a:pt x="698" y="1582"/>
                </a:lnTo>
                <a:lnTo>
                  <a:pt x="664" y="1570"/>
                </a:lnTo>
                <a:lnTo>
                  <a:pt x="632" y="1558"/>
                </a:lnTo>
                <a:lnTo>
                  <a:pt x="602" y="1544"/>
                </a:lnTo>
                <a:lnTo>
                  <a:pt x="570" y="1528"/>
                </a:lnTo>
                <a:lnTo>
                  <a:pt x="542" y="1512"/>
                </a:lnTo>
                <a:lnTo>
                  <a:pt x="512" y="1492"/>
                </a:lnTo>
                <a:lnTo>
                  <a:pt x="484" y="1474"/>
                </a:lnTo>
                <a:lnTo>
                  <a:pt x="458" y="1452"/>
                </a:lnTo>
                <a:lnTo>
                  <a:pt x="432" y="1430"/>
                </a:lnTo>
                <a:lnTo>
                  <a:pt x="408" y="1406"/>
                </a:lnTo>
                <a:lnTo>
                  <a:pt x="384" y="1382"/>
                </a:lnTo>
                <a:lnTo>
                  <a:pt x="362" y="1356"/>
                </a:lnTo>
                <a:lnTo>
                  <a:pt x="342" y="1330"/>
                </a:lnTo>
                <a:lnTo>
                  <a:pt x="322" y="1302"/>
                </a:lnTo>
                <a:lnTo>
                  <a:pt x="304" y="1274"/>
                </a:lnTo>
                <a:lnTo>
                  <a:pt x="286" y="1244"/>
                </a:lnTo>
                <a:lnTo>
                  <a:pt x="272" y="1214"/>
                </a:lnTo>
                <a:lnTo>
                  <a:pt x="256" y="1182"/>
                </a:lnTo>
                <a:lnTo>
                  <a:pt x="244" y="1150"/>
                </a:lnTo>
                <a:lnTo>
                  <a:pt x="234" y="1118"/>
                </a:lnTo>
                <a:lnTo>
                  <a:pt x="224" y="1084"/>
                </a:lnTo>
                <a:lnTo>
                  <a:pt x="216" y="1050"/>
                </a:lnTo>
                <a:lnTo>
                  <a:pt x="210" y="1016"/>
                </a:lnTo>
                <a:lnTo>
                  <a:pt x="206" y="980"/>
                </a:lnTo>
                <a:lnTo>
                  <a:pt x="202" y="944"/>
                </a:lnTo>
                <a:lnTo>
                  <a:pt x="202" y="908"/>
                </a:lnTo>
                <a:lnTo>
                  <a:pt x="202" y="872"/>
                </a:lnTo>
                <a:lnTo>
                  <a:pt x="206" y="836"/>
                </a:lnTo>
                <a:lnTo>
                  <a:pt x="210" y="800"/>
                </a:lnTo>
                <a:lnTo>
                  <a:pt x="216" y="766"/>
                </a:lnTo>
                <a:lnTo>
                  <a:pt x="224" y="732"/>
                </a:lnTo>
                <a:lnTo>
                  <a:pt x="234" y="698"/>
                </a:lnTo>
                <a:lnTo>
                  <a:pt x="244" y="664"/>
                </a:lnTo>
                <a:lnTo>
                  <a:pt x="256" y="632"/>
                </a:lnTo>
                <a:lnTo>
                  <a:pt x="272" y="602"/>
                </a:lnTo>
                <a:lnTo>
                  <a:pt x="286" y="572"/>
                </a:lnTo>
                <a:lnTo>
                  <a:pt x="304" y="542"/>
                </a:lnTo>
                <a:lnTo>
                  <a:pt x="322" y="512"/>
                </a:lnTo>
                <a:lnTo>
                  <a:pt x="342" y="486"/>
                </a:lnTo>
                <a:lnTo>
                  <a:pt x="362" y="458"/>
                </a:lnTo>
                <a:lnTo>
                  <a:pt x="384" y="432"/>
                </a:lnTo>
                <a:lnTo>
                  <a:pt x="408" y="408"/>
                </a:lnTo>
                <a:lnTo>
                  <a:pt x="432" y="386"/>
                </a:lnTo>
                <a:lnTo>
                  <a:pt x="458" y="362"/>
                </a:lnTo>
                <a:lnTo>
                  <a:pt x="484" y="342"/>
                </a:lnTo>
                <a:lnTo>
                  <a:pt x="512" y="322"/>
                </a:lnTo>
                <a:lnTo>
                  <a:pt x="542" y="304"/>
                </a:lnTo>
                <a:lnTo>
                  <a:pt x="570" y="286"/>
                </a:lnTo>
                <a:lnTo>
                  <a:pt x="602" y="272"/>
                </a:lnTo>
                <a:lnTo>
                  <a:pt x="632" y="258"/>
                </a:lnTo>
                <a:lnTo>
                  <a:pt x="664" y="244"/>
                </a:lnTo>
                <a:lnTo>
                  <a:pt x="698" y="234"/>
                </a:lnTo>
                <a:lnTo>
                  <a:pt x="730" y="224"/>
                </a:lnTo>
                <a:lnTo>
                  <a:pt x="766" y="216"/>
                </a:lnTo>
                <a:lnTo>
                  <a:pt x="800" y="210"/>
                </a:lnTo>
                <a:lnTo>
                  <a:pt x="836" y="206"/>
                </a:lnTo>
                <a:lnTo>
                  <a:pt x="872" y="202"/>
                </a:lnTo>
                <a:lnTo>
                  <a:pt x="908" y="202"/>
                </a:lnTo>
                <a:lnTo>
                  <a:pt x="944" y="202"/>
                </a:lnTo>
                <a:lnTo>
                  <a:pt x="980" y="206"/>
                </a:lnTo>
                <a:lnTo>
                  <a:pt x="1014" y="210"/>
                </a:lnTo>
                <a:lnTo>
                  <a:pt x="1050" y="216"/>
                </a:lnTo>
                <a:lnTo>
                  <a:pt x="1084" y="224"/>
                </a:lnTo>
                <a:lnTo>
                  <a:pt x="1118" y="234"/>
                </a:lnTo>
                <a:lnTo>
                  <a:pt x="1150" y="244"/>
                </a:lnTo>
                <a:lnTo>
                  <a:pt x="1182" y="258"/>
                </a:lnTo>
                <a:lnTo>
                  <a:pt x="1214" y="272"/>
                </a:lnTo>
                <a:lnTo>
                  <a:pt x="1244" y="286"/>
                </a:lnTo>
                <a:lnTo>
                  <a:pt x="1274" y="304"/>
                </a:lnTo>
                <a:lnTo>
                  <a:pt x="1302" y="322"/>
                </a:lnTo>
                <a:lnTo>
                  <a:pt x="1330" y="342"/>
                </a:lnTo>
                <a:lnTo>
                  <a:pt x="1356" y="362"/>
                </a:lnTo>
                <a:lnTo>
                  <a:pt x="1382" y="386"/>
                </a:lnTo>
                <a:lnTo>
                  <a:pt x="1406" y="408"/>
                </a:lnTo>
                <a:lnTo>
                  <a:pt x="1430" y="432"/>
                </a:lnTo>
                <a:lnTo>
                  <a:pt x="1452" y="458"/>
                </a:lnTo>
                <a:lnTo>
                  <a:pt x="1474" y="486"/>
                </a:lnTo>
                <a:lnTo>
                  <a:pt x="1492" y="512"/>
                </a:lnTo>
                <a:lnTo>
                  <a:pt x="1512" y="542"/>
                </a:lnTo>
                <a:lnTo>
                  <a:pt x="1528" y="572"/>
                </a:lnTo>
                <a:lnTo>
                  <a:pt x="1544" y="602"/>
                </a:lnTo>
                <a:lnTo>
                  <a:pt x="1558" y="632"/>
                </a:lnTo>
                <a:lnTo>
                  <a:pt x="1570" y="664"/>
                </a:lnTo>
                <a:lnTo>
                  <a:pt x="1582" y="698"/>
                </a:lnTo>
                <a:lnTo>
                  <a:pt x="1592" y="732"/>
                </a:lnTo>
                <a:lnTo>
                  <a:pt x="1598" y="766"/>
                </a:lnTo>
                <a:lnTo>
                  <a:pt x="1606" y="800"/>
                </a:lnTo>
                <a:lnTo>
                  <a:pt x="1610" y="836"/>
                </a:lnTo>
                <a:lnTo>
                  <a:pt x="1612" y="872"/>
                </a:lnTo>
                <a:lnTo>
                  <a:pt x="1614" y="908"/>
                </a:lnTo>
                <a:lnTo>
                  <a:pt x="1612" y="944"/>
                </a:lnTo>
                <a:lnTo>
                  <a:pt x="1610" y="980"/>
                </a:lnTo>
                <a:lnTo>
                  <a:pt x="1606" y="1016"/>
                </a:lnTo>
                <a:lnTo>
                  <a:pt x="1598" y="1050"/>
                </a:lnTo>
                <a:lnTo>
                  <a:pt x="1592" y="1084"/>
                </a:lnTo>
                <a:lnTo>
                  <a:pt x="1582" y="1118"/>
                </a:lnTo>
                <a:lnTo>
                  <a:pt x="1570" y="1150"/>
                </a:lnTo>
                <a:lnTo>
                  <a:pt x="1558" y="1182"/>
                </a:lnTo>
                <a:lnTo>
                  <a:pt x="1544" y="1214"/>
                </a:lnTo>
                <a:lnTo>
                  <a:pt x="1528" y="1244"/>
                </a:lnTo>
                <a:lnTo>
                  <a:pt x="1512" y="1274"/>
                </a:lnTo>
                <a:lnTo>
                  <a:pt x="1492" y="1302"/>
                </a:lnTo>
                <a:lnTo>
                  <a:pt x="1474" y="1330"/>
                </a:lnTo>
                <a:lnTo>
                  <a:pt x="1452" y="1356"/>
                </a:lnTo>
                <a:lnTo>
                  <a:pt x="1430" y="1382"/>
                </a:lnTo>
                <a:lnTo>
                  <a:pt x="1406" y="1406"/>
                </a:lnTo>
                <a:lnTo>
                  <a:pt x="1382" y="1430"/>
                </a:lnTo>
                <a:lnTo>
                  <a:pt x="1356" y="1452"/>
                </a:lnTo>
                <a:lnTo>
                  <a:pt x="1330" y="1474"/>
                </a:lnTo>
                <a:lnTo>
                  <a:pt x="1302" y="1492"/>
                </a:lnTo>
                <a:lnTo>
                  <a:pt x="1274" y="1512"/>
                </a:lnTo>
                <a:lnTo>
                  <a:pt x="1244" y="1528"/>
                </a:lnTo>
                <a:lnTo>
                  <a:pt x="1214" y="1544"/>
                </a:lnTo>
                <a:lnTo>
                  <a:pt x="1182" y="1558"/>
                </a:lnTo>
                <a:lnTo>
                  <a:pt x="1150" y="1570"/>
                </a:lnTo>
                <a:lnTo>
                  <a:pt x="1118" y="1582"/>
                </a:lnTo>
                <a:lnTo>
                  <a:pt x="1084" y="1592"/>
                </a:lnTo>
                <a:lnTo>
                  <a:pt x="1050" y="1600"/>
                </a:lnTo>
                <a:lnTo>
                  <a:pt x="1014" y="1606"/>
                </a:lnTo>
                <a:lnTo>
                  <a:pt x="980" y="1610"/>
                </a:lnTo>
                <a:lnTo>
                  <a:pt x="944" y="1612"/>
                </a:lnTo>
                <a:lnTo>
                  <a:pt x="908" y="1614"/>
                </a:lnTo>
                <a:close/>
              </a:path>
            </a:pathLst>
          </a:custGeom>
          <a:solidFill>
            <a:srgbClr val="cbcbc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MH_Other_7"/>
          <p:cNvSpPr/>
          <p:nvPr/>
        </p:nvSpPr>
        <p:spPr>
          <a:xfrm rot="21274800">
            <a:off x="7292520" y="3898800"/>
            <a:ext cx="1176480" cy="117468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MH_Other_8"/>
          <p:cNvSpPr/>
          <p:nvPr/>
        </p:nvSpPr>
        <p:spPr>
          <a:xfrm rot="7501200">
            <a:off x="5868360" y="3577320"/>
            <a:ext cx="1419120" cy="1154160"/>
          </a:xfrm>
          <a:custGeom>
            <a:avLst/>
            <a:gdLst>
              <a:gd name="textAreaLeft" fmla="*/ 0 w 1419120"/>
              <a:gd name="textAreaRight" fmla="*/ 1419480 w 1419120"/>
              <a:gd name="textAreaTop" fmla="*/ 0 h 1154160"/>
              <a:gd name="textAreaBottom" fmla="*/ 1154520 h 1154160"/>
            </a:gdLst>
            <a:ahLst/>
            <a:rect l="textAreaLeft" t="textAreaTop" r="textAreaRight" b="textAreaBottom"/>
            <a:pathLst>
              <a:path fill="none" w="21600" h="15695">
                <a:moveTo>
                  <a:pt x="14840" y="-1"/>
                </a:moveTo>
                <a:cubicBezTo>
                  <a:pt x="19155" y="4079"/>
                  <a:pt x="21600" y="9756"/>
                  <a:pt x="21600" y="15695"/>
                </a:cubicBezTo>
              </a:path>
              <a:path stroke="0" w="21600" h="15695">
                <a:moveTo>
                  <a:pt x="14840" y="-1"/>
                </a:moveTo>
                <a:cubicBezTo>
                  <a:pt x="19155" y="4079"/>
                  <a:pt x="21600" y="9756"/>
                  <a:pt x="21600" y="15695"/>
                </a:cubicBezTo>
                <a:lnTo>
                  <a:pt x="0" y="15695"/>
                </a:lnTo>
                <a:lnTo>
                  <a:pt x="14840" y="-1"/>
                </a:lnTo>
                <a:close/>
              </a:path>
            </a:pathLst>
          </a:custGeom>
          <a:noFill/>
          <a:ln w="76320">
            <a:solidFill>
              <a:srgbClr val="ff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MH_Other_9"/>
          <p:cNvSpPr/>
          <p:nvPr/>
        </p:nvSpPr>
        <p:spPr>
          <a:xfrm rot="256800">
            <a:off x="8010000" y="2933640"/>
            <a:ext cx="463680" cy="668520"/>
          </a:xfrm>
          <a:custGeom>
            <a:avLst/>
            <a:gdLst>
              <a:gd name="textAreaLeft" fmla="*/ 0 w 463680"/>
              <a:gd name="textAreaRight" fmla="*/ 464040 w 463680"/>
              <a:gd name="textAreaTop" fmla="*/ 0 h 668520"/>
              <a:gd name="textAreaBottom" fmla="*/ 668880 h 668520"/>
            </a:gdLst>
            <a:ahLst/>
            <a:rect l="textAreaLeft" t="textAreaTop" r="textAreaRight" b="textAreaBottom"/>
            <a:pathLst>
              <a:path fill="none" w="21600" h="31203">
                <a:moveTo>
                  <a:pt x="3237" y="-1"/>
                </a:moveTo>
                <a:cubicBezTo>
                  <a:pt x="13795" y="1600"/>
                  <a:pt x="21600" y="10676"/>
                  <a:pt x="21600" y="21356"/>
                </a:cubicBezTo>
                <a:cubicBezTo>
                  <a:pt x="21600" y="24780"/>
                  <a:pt x="20785" y="28155"/>
                  <a:pt x="19224" y="31202"/>
                </a:cubicBezTo>
              </a:path>
              <a:path stroke="0" w="21600" h="31203">
                <a:moveTo>
                  <a:pt x="3237" y="-1"/>
                </a:moveTo>
                <a:cubicBezTo>
                  <a:pt x="13795" y="1600"/>
                  <a:pt x="21600" y="10676"/>
                  <a:pt x="21600" y="21356"/>
                </a:cubicBezTo>
                <a:cubicBezTo>
                  <a:pt x="21600" y="24780"/>
                  <a:pt x="20785" y="28155"/>
                  <a:pt x="19224" y="31202"/>
                </a:cubicBezTo>
                <a:lnTo>
                  <a:pt x="0" y="21356"/>
                </a:lnTo>
                <a:lnTo>
                  <a:pt x="3237" y="-1"/>
                </a:lnTo>
                <a:close/>
              </a:path>
            </a:pathLst>
          </a:custGeom>
          <a:noFill/>
          <a:ln w="76320">
            <a:solidFill>
              <a:srgbClr val="358cc1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Group 9"/>
          <p:cNvGrpSpPr/>
          <p:nvPr/>
        </p:nvGrpSpPr>
        <p:grpSpPr>
          <a:xfrm>
            <a:off x="3369600" y="2003040"/>
            <a:ext cx="2782440" cy="2783880"/>
            <a:chOff x="3369600" y="2003040"/>
            <a:chExt cx="2782440" cy="2783880"/>
          </a:xfrm>
        </p:grpSpPr>
        <p:sp>
          <p:nvSpPr>
            <p:cNvPr id="251" name="MH_Other_3"/>
            <p:cNvSpPr/>
            <p:nvPr/>
          </p:nvSpPr>
          <p:spPr>
            <a:xfrm rot="21274800">
              <a:off x="3484440" y="2117880"/>
              <a:ext cx="2552760" cy="2554200"/>
            </a:xfrm>
            <a:custGeom>
              <a:avLst/>
              <a:gdLst>
                <a:gd name="textAreaLeft" fmla="*/ 0 w 2552760"/>
                <a:gd name="textAreaRight" fmla="*/ 2553120 w 2552760"/>
                <a:gd name="textAreaTop" fmla="*/ 0 h 2554200"/>
                <a:gd name="textAreaBottom" fmla="*/ 2554560 h 2554200"/>
              </a:gdLst>
              <a:ahLst/>
              <a:rect l="textAreaLeft" t="textAreaTop" r="textAreaRight" b="textAreaBottom"/>
              <a:pathLst>
                <a:path w="2622" h="2622">
                  <a:moveTo>
                    <a:pt x="2622" y="1382"/>
                  </a:moveTo>
                  <a:lnTo>
                    <a:pt x="2622" y="1240"/>
                  </a:lnTo>
                  <a:lnTo>
                    <a:pt x="2520" y="1240"/>
                  </a:lnTo>
                  <a:lnTo>
                    <a:pt x="2516" y="1196"/>
                  </a:lnTo>
                  <a:lnTo>
                    <a:pt x="2512" y="1152"/>
                  </a:lnTo>
                  <a:lnTo>
                    <a:pt x="2506" y="1110"/>
                  </a:lnTo>
                  <a:lnTo>
                    <a:pt x="2498" y="1068"/>
                  </a:lnTo>
                  <a:lnTo>
                    <a:pt x="2596" y="1040"/>
                  </a:lnTo>
                  <a:lnTo>
                    <a:pt x="2560" y="904"/>
                  </a:lnTo>
                  <a:lnTo>
                    <a:pt x="2460" y="930"/>
                  </a:lnTo>
                  <a:lnTo>
                    <a:pt x="2446" y="888"/>
                  </a:lnTo>
                  <a:lnTo>
                    <a:pt x="2430" y="848"/>
                  </a:lnTo>
                  <a:lnTo>
                    <a:pt x="2412" y="808"/>
                  </a:lnTo>
                  <a:lnTo>
                    <a:pt x="2394" y="768"/>
                  </a:lnTo>
                  <a:lnTo>
                    <a:pt x="2482" y="718"/>
                  </a:lnTo>
                  <a:lnTo>
                    <a:pt x="2412" y="594"/>
                  </a:lnTo>
                  <a:lnTo>
                    <a:pt x="2322" y="646"/>
                  </a:lnTo>
                  <a:lnTo>
                    <a:pt x="2298" y="610"/>
                  </a:lnTo>
                  <a:lnTo>
                    <a:pt x="2272" y="574"/>
                  </a:lnTo>
                  <a:lnTo>
                    <a:pt x="2244" y="540"/>
                  </a:lnTo>
                  <a:lnTo>
                    <a:pt x="2216" y="508"/>
                  </a:lnTo>
                  <a:lnTo>
                    <a:pt x="2290" y="434"/>
                  </a:lnTo>
                  <a:lnTo>
                    <a:pt x="2188" y="334"/>
                  </a:lnTo>
                  <a:lnTo>
                    <a:pt x="2116" y="406"/>
                  </a:lnTo>
                  <a:lnTo>
                    <a:pt x="2082" y="378"/>
                  </a:lnTo>
                  <a:lnTo>
                    <a:pt x="2048" y="352"/>
                  </a:lnTo>
                  <a:lnTo>
                    <a:pt x="2014" y="326"/>
                  </a:lnTo>
                  <a:lnTo>
                    <a:pt x="1978" y="300"/>
                  </a:lnTo>
                  <a:lnTo>
                    <a:pt x="2028" y="212"/>
                  </a:lnTo>
                  <a:lnTo>
                    <a:pt x="1906" y="140"/>
                  </a:lnTo>
                  <a:lnTo>
                    <a:pt x="1854" y="230"/>
                  </a:lnTo>
                  <a:lnTo>
                    <a:pt x="1816" y="210"/>
                  </a:lnTo>
                  <a:lnTo>
                    <a:pt x="1776" y="194"/>
                  </a:lnTo>
                  <a:lnTo>
                    <a:pt x="1734" y="178"/>
                  </a:lnTo>
                  <a:lnTo>
                    <a:pt x="1694" y="162"/>
                  </a:lnTo>
                  <a:lnTo>
                    <a:pt x="1720" y="64"/>
                  </a:lnTo>
                  <a:lnTo>
                    <a:pt x="1582" y="26"/>
                  </a:lnTo>
                  <a:lnTo>
                    <a:pt x="1556" y="126"/>
                  </a:lnTo>
                  <a:lnTo>
                    <a:pt x="1514" y="118"/>
                  </a:lnTo>
                  <a:lnTo>
                    <a:pt x="1470" y="112"/>
                  </a:lnTo>
                  <a:lnTo>
                    <a:pt x="1426" y="106"/>
                  </a:lnTo>
                  <a:lnTo>
                    <a:pt x="1382" y="104"/>
                  </a:lnTo>
                  <a:lnTo>
                    <a:pt x="1382" y="0"/>
                  </a:lnTo>
                  <a:lnTo>
                    <a:pt x="1240" y="0"/>
                  </a:lnTo>
                  <a:lnTo>
                    <a:pt x="1240" y="104"/>
                  </a:lnTo>
                  <a:lnTo>
                    <a:pt x="1196" y="106"/>
                  </a:lnTo>
                  <a:lnTo>
                    <a:pt x="1154" y="112"/>
                  </a:lnTo>
                  <a:lnTo>
                    <a:pt x="1110" y="118"/>
                  </a:lnTo>
                  <a:lnTo>
                    <a:pt x="1068" y="126"/>
                  </a:lnTo>
                  <a:lnTo>
                    <a:pt x="1042" y="26"/>
                  </a:lnTo>
                  <a:lnTo>
                    <a:pt x="904" y="64"/>
                  </a:lnTo>
                  <a:lnTo>
                    <a:pt x="930" y="162"/>
                  </a:lnTo>
                  <a:lnTo>
                    <a:pt x="890" y="178"/>
                  </a:lnTo>
                  <a:lnTo>
                    <a:pt x="848" y="194"/>
                  </a:lnTo>
                  <a:lnTo>
                    <a:pt x="808" y="210"/>
                  </a:lnTo>
                  <a:lnTo>
                    <a:pt x="770" y="230"/>
                  </a:lnTo>
                  <a:lnTo>
                    <a:pt x="718" y="140"/>
                  </a:lnTo>
                  <a:lnTo>
                    <a:pt x="594" y="212"/>
                  </a:lnTo>
                  <a:lnTo>
                    <a:pt x="646" y="300"/>
                  </a:lnTo>
                  <a:lnTo>
                    <a:pt x="610" y="326"/>
                  </a:lnTo>
                  <a:lnTo>
                    <a:pt x="576" y="352"/>
                  </a:lnTo>
                  <a:lnTo>
                    <a:pt x="542" y="378"/>
                  </a:lnTo>
                  <a:lnTo>
                    <a:pt x="508" y="406"/>
                  </a:lnTo>
                  <a:lnTo>
                    <a:pt x="436" y="334"/>
                  </a:lnTo>
                  <a:lnTo>
                    <a:pt x="334" y="434"/>
                  </a:lnTo>
                  <a:lnTo>
                    <a:pt x="408" y="508"/>
                  </a:lnTo>
                  <a:lnTo>
                    <a:pt x="378" y="540"/>
                  </a:lnTo>
                  <a:lnTo>
                    <a:pt x="352" y="574"/>
                  </a:lnTo>
                  <a:lnTo>
                    <a:pt x="326" y="610"/>
                  </a:lnTo>
                  <a:lnTo>
                    <a:pt x="302" y="646"/>
                  </a:lnTo>
                  <a:lnTo>
                    <a:pt x="212" y="594"/>
                  </a:lnTo>
                  <a:lnTo>
                    <a:pt x="140" y="718"/>
                  </a:lnTo>
                  <a:lnTo>
                    <a:pt x="230" y="768"/>
                  </a:lnTo>
                  <a:lnTo>
                    <a:pt x="212" y="808"/>
                  </a:lnTo>
                  <a:lnTo>
                    <a:pt x="194" y="848"/>
                  </a:lnTo>
                  <a:lnTo>
                    <a:pt x="178" y="888"/>
                  </a:lnTo>
                  <a:lnTo>
                    <a:pt x="164" y="930"/>
                  </a:lnTo>
                  <a:lnTo>
                    <a:pt x="64" y="904"/>
                  </a:lnTo>
                  <a:lnTo>
                    <a:pt x="26" y="1040"/>
                  </a:lnTo>
                  <a:lnTo>
                    <a:pt x="126" y="1068"/>
                  </a:lnTo>
                  <a:lnTo>
                    <a:pt x="118" y="1110"/>
                  </a:lnTo>
                  <a:lnTo>
                    <a:pt x="112" y="1152"/>
                  </a:lnTo>
                  <a:lnTo>
                    <a:pt x="108" y="1196"/>
                  </a:lnTo>
                  <a:lnTo>
                    <a:pt x="104" y="1240"/>
                  </a:lnTo>
                  <a:lnTo>
                    <a:pt x="0" y="1240"/>
                  </a:lnTo>
                  <a:lnTo>
                    <a:pt x="0" y="1382"/>
                  </a:lnTo>
                  <a:lnTo>
                    <a:pt x="104" y="1382"/>
                  </a:lnTo>
                  <a:lnTo>
                    <a:pt x="108" y="1426"/>
                  </a:lnTo>
                  <a:lnTo>
                    <a:pt x="112" y="1470"/>
                  </a:lnTo>
                  <a:lnTo>
                    <a:pt x="118" y="1512"/>
                  </a:lnTo>
                  <a:lnTo>
                    <a:pt x="126" y="1556"/>
                  </a:lnTo>
                  <a:lnTo>
                    <a:pt x="26" y="1582"/>
                  </a:lnTo>
                  <a:lnTo>
                    <a:pt x="64" y="1720"/>
                  </a:lnTo>
                  <a:lnTo>
                    <a:pt x="164" y="1692"/>
                  </a:lnTo>
                  <a:lnTo>
                    <a:pt x="178" y="1734"/>
                  </a:lnTo>
                  <a:lnTo>
                    <a:pt x="194" y="1774"/>
                  </a:lnTo>
                  <a:lnTo>
                    <a:pt x="212" y="1814"/>
                  </a:lnTo>
                  <a:lnTo>
                    <a:pt x="230" y="1854"/>
                  </a:lnTo>
                  <a:lnTo>
                    <a:pt x="140" y="1906"/>
                  </a:lnTo>
                  <a:lnTo>
                    <a:pt x="212" y="2028"/>
                  </a:lnTo>
                  <a:lnTo>
                    <a:pt x="302" y="1978"/>
                  </a:lnTo>
                  <a:lnTo>
                    <a:pt x="326" y="2014"/>
                  </a:lnTo>
                  <a:lnTo>
                    <a:pt x="352" y="2048"/>
                  </a:lnTo>
                  <a:lnTo>
                    <a:pt x="378" y="2082"/>
                  </a:lnTo>
                  <a:lnTo>
                    <a:pt x="408" y="2116"/>
                  </a:lnTo>
                  <a:lnTo>
                    <a:pt x="334" y="2188"/>
                  </a:lnTo>
                  <a:lnTo>
                    <a:pt x="436" y="2288"/>
                  </a:lnTo>
                  <a:lnTo>
                    <a:pt x="508" y="2216"/>
                  </a:lnTo>
                  <a:lnTo>
                    <a:pt x="542" y="2244"/>
                  </a:lnTo>
                  <a:lnTo>
                    <a:pt x="576" y="2272"/>
                  </a:lnTo>
                  <a:lnTo>
                    <a:pt x="610" y="2298"/>
                  </a:lnTo>
                  <a:lnTo>
                    <a:pt x="646" y="2322"/>
                  </a:lnTo>
                  <a:lnTo>
                    <a:pt x="594" y="2412"/>
                  </a:lnTo>
                  <a:lnTo>
                    <a:pt x="718" y="2482"/>
                  </a:lnTo>
                  <a:lnTo>
                    <a:pt x="770" y="2394"/>
                  </a:lnTo>
                  <a:lnTo>
                    <a:pt x="808" y="2412"/>
                  </a:lnTo>
                  <a:lnTo>
                    <a:pt x="848" y="2430"/>
                  </a:lnTo>
                  <a:lnTo>
                    <a:pt x="890" y="2446"/>
                  </a:lnTo>
                  <a:lnTo>
                    <a:pt x="930" y="2460"/>
                  </a:lnTo>
                  <a:lnTo>
                    <a:pt x="904" y="2560"/>
                  </a:lnTo>
                  <a:lnTo>
                    <a:pt x="1042" y="2596"/>
                  </a:lnTo>
                  <a:lnTo>
                    <a:pt x="1068" y="2498"/>
                  </a:lnTo>
                  <a:lnTo>
                    <a:pt x="1110" y="2504"/>
                  </a:lnTo>
                  <a:lnTo>
                    <a:pt x="1154" y="2512"/>
                  </a:lnTo>
                  <a:lnTo>
                    <a:pt x="1196" y="2516"/>
                  </a:lnTo>
                  <a:lnTo>
                    <a:pt x="1240" y="2520"/>
                  </a:lnTo>
                  <a:lnTo>
                    <a:pt x="1240" y="2622"/>
                  </a:lnTo>
                  <a:lnTo>
                    <a:pt x="1382" y="2622"/>
                  </a:lnTo>
                  <a:lnTo>
                    <a:pt x="1382" y="2520"/>
                  </a:lnTo>
                  <a:lnTo>
                    <a:pt x="1426" y="2516"/>
                  </a:lnTo>
                  <a:lnTo>
                    <a:pt x="1470" y="2512"/>
                  </a:lnTo>
                  <a:lnTo>
                    <a:pt x="1514" y="2504"/>
                  </a:lnTo>
                  <a:lnTo>
                    <a:pt x="1556" y="2498"/>
                  </a:lnTo>
                  <a:lnTo>
                    <a:pt x="1582" y="2596"/>
                  </a:lnTo>
                  <a:lnTo>
                    <a:pt x="1720" y="2560"/>
                  </a:lnTo>
                  <a:lnTo>
                    <a:pt x="1694" y="2460"/>
                  </a:lnTo>
                  <a:lnTo>
                    <a:pt x="1734" y="2446"/>
                  </a:lnTo>
                  <a:lnTo>
                    <a:pt x="1776" y="2430"/>
                  </a:lnTo>
                  <a:lnTo>
                    <a:pt x="1816" y="2412"/>
                  </a:lnTo>
                  <a:lnTo>
                    <a:pt x="1854" y="2394"/>
                  </a:lnTo>
                  <a:lnTo>
                    <a:pt x="1906" y="2482"/>
                  </a:lnTo>
                  <a:lnTo>
                    <a:pt x="2028" y="2412"/>
                  </a:lnTo>
                  <a:lnTo>
                    <a:pt x="1978" y="2322"/>
                  </a:lnTo>
                  <a:lnTo>
                    <a:pt x="2014" y="2298"/>
                  </a:lnTo>
                  <a:lnTo>
                    <a:pt x="2048" y="2272"/>
                  </a:lnTo>
                  <a:lnTo>
                    <a:pt x="2082" y="2244"/>
                  </a:lnTo>
                  <a:lnTo>
                    <a:pt x="2116" y="2216"/>
                  </a:lnTo>
                  <a:lnTo>
                    <a:pt x="2188" y="2288"/>
                  </a:lnTo>
                  <a:lnTo>
                    <a:pt x="2290" y="2188"/>
                  </a:lnTo>
                  <a:lnTo>
                    <a:pt x="2216" y="2116"/>
                  </a:lnTo>
                  <a:lnTo>
                    <a:pt x="2244" y="2082"/>
                  </a:lnTo>
                  <a:lnTo>
                    <a:pt x="2272" y="2048"/>
                  </a:lnTo>
                  <a:lnTo>
                    <a:pt x="2298" y="2014"/>
                  </a:lnTo>
                  <a:lnTo>
                    <a:pt x="2322" y="1978"/>
                  </a:lnTo>
                  <a:lnTo>
                    <a:pt x="2412" y="2028"/>
                  </a:lnTo>
                  <a:lnTo>
                    <a:pt x="2482" y="1906"/>
                  </a:lnTo>
                  <a:lnTo>
                    <a:pt x="2394" y="1854"/>
                  </a:lnTo>
                  <a:lnTo>
                    <a:pt x="2412" y="1814"/>
                  </a:lnTo>
                  <a:lnTo>
                    <a:pt x="2430" y="1774"/>
                  </a:lnTo>
                  <a:lnTo>
                    <a:pt x="2446" y="1734"/>
                  </a:lnTo>
                  <a:lnTo>
                    <a:pt x="2460" y="1692"/>
                  </a:lnTo>
                  <a:lnTo>
                    <a:pt x="2560" y="1720"/>
                  </a:lnTo>
                  <a:lnTo>
                    <a:pt x="2596" y="1582"/>
                  </a:lnTo>
                  <a:lnTo>
                    <a:pt x="2498" y="1556"/>
                  </a:lnTo>
                  <a:lnTo>
                    <a:pt x="2506" y="1512"/>
                  </a:lnTo>
                  <a:lnTo>
                    <a:pt x="2512" y="1470"/>
                  </a:lnTo>
                  <a:lnTo>
                    <a:pt x="2516" y="1426"/>
                  </a:lnTo>
                  <a:lnTo>
                    <a:pt x="2520" y="1382"/>
                  </a:lnTo>
                  <a:lnTo>
                    <a:pt x="2622" y="1382"/>
                  </a:lnTo>
                  <a:close/>
                  <a:moveTo>
                    <a:pt x="1312" y="2420"/>
                  </a:moveTo>
                  <a:lnTo>
                    <a:pt x="1312" y="2420"/>
                  </a:lnTo>
                  <a:lnTo>
                    <a:pt x="1254" y="2420"/>
                  </a:lnTo>
                  <a:lnTo>
                    <a:pt x="1198" y="2416"/>
                  </a:lnTo>
                  <a:lnTo>
                    <a:pt x="1142" y="2408"/>
                  </a:lnTo>
                  <a:lnTo>
                    <a:pt x="1088" y="2398"/>
                  </a:lnTo>
                  <a:lnTo>
                    <a:pt x="1034" y="2386"/>
                  </a:lnTo>
                  <a:lnTo>
                    <a:pt x="982" y="2370"/>
                  </a:lnTo>
                  <a:lnTo>
                    <a:pt x="930" y="2354"/>
                  </a:lnTo>
                  <a:lnTo>
                    <a:pt x="880" y="2334"/>
                  </a:lnTo>
                  <a:lnTo>
                    <a:pt x="830" y="2312"/>
                  </a:lnTo>
                  <a:lnTo>
                    <a:pt x="782" y="2286"/>
                  </a:lnTo>
                  <a:lnTo>
                    <a:pt x="736" y="2260"/>
                  </a:lnTo>
                  <a:lnTo>
                    <a:pt x="692" y="2232"/>
                  </a:lnTo>
                  <a:lnTo>
                    <a:pt x="648" y="2200"/>
                  </a:lnTo>
                  <a:lnTo>
                    <a:pt x="606" y="2168"/>
                  </a:lnTo>
                  <a:lnTo>
                    <a:pt x="566" y="2132"/>
                  </a:lnTo>
                  <a:lnTo>
                    <a:pt x="528" y="2096"/>
                  </a:lnTo>
                  <a:lnTo>
                    <a:pt x="490" y="2058"/>
                  </a:lnTo>
                  <a:lnTo>
                    <a:pt x="456" y="2018"/>
                  </a:lnTo>
                  <a:lnTo>
                    <a:pt x="422" y="1976"/>
                  </a:lnTo>
                  <a:lnTo>
                    <a:pt x="392" y="1932"/>
                  </a:lnTo>
                  <a:lnTo>
                    <a:pt x="362" y="1886"/>
                  </a:lnTo>
                  <a:lnTo>
                    <a:pt x="336" y="1840"/>
                  </a:lnTo>
                  <a:lnTo>
                    <a:pt x="312" y="1792"/>
                  </a:lnTo>
                  <a:lnTo>
                    <a:pt x="290" y="1744"/>
                  </a:lnTo>
                  <a:lnTo>
                    <a:pt x="270" y="1692"/>
                  </a:lnTo>
                  <a:lnTo>
                    <a:pt x="252" y="1642"/>
                  </a:lnTo>
                  <a:lnTo>
                    <a:pt x="238" y="1588"/>
                  </a:lnTo>
                  <a:lnTo>
                    <a:pt x="224" y="1534"/>
                  </a:lnTo>
                  <a:lnTo>
                    <a:pt x="216" y="1480"/>
                  </a:lnTo>
                  <a:lnTo>
                    <a:pt x="208" y="1424"/>
                  </a:lnTo>
                  <a:lnTo>
                    <a:pt x="204" y="1368"/>
                  </a:lnTo>
                  <a:lnTo>
                    <a:pt x="202" y="1312"/>
                  </a:lnTo>
                  <a:lnTo>
                    <a:pt x="204" y="1254"/>
                  </a:lnTo>
                  <a:lnTo>
                    <a:pt x="208" y="1198"/>
                  </a:lnTo>
                  <a:lnTo>
                    <a:pt x="216" y="1142"/>
                  </a:lnTo>
                  <a:lnTo>
                    <a:pt x="224" y="1088"/>
                  </a:lnTo>
                  <a:lnTo>
                    <a:pt x="238" y="1034"/>
                  </a:lnTo>
                  <a:lnTo>
                    <a:pt x="252" y="982"/>
                  </a:lnTo>
                  <a:lnTo>
                    <a:pt x="270" y="930"/>
                  </a:lnTo>
                  <a:lnTo>
                    <a:pt x="290" y="880"/>
                  </a:lnTo>
                  <a:lnTo>
                    <a:pt x="312" y="830"/>
                  </a:lnTo>
                  <a:lnTo>
                    <a:pt x="336" y="782"/>
                  </a:lnTo>
                  <a:lnTo>
                    <a:pt x="362" y="736"/>
                  </a:lnTo>
                  <a:lnTo>
                    <a:pt x="392" y="692"/>
                  </a:lnTo>
                  <a:lnTo>
                    <a:pt x="422" y="648"/>
                  </a:lnTo>
                  <a:lnTo>
                    <a:pt x="456" y="606"/>
                  </a:lnTo>
                  <a:lnTo>
                    <a:pt x="490" y="566"/>
                  </a:lnTo>
                  <a:lnTo>
                    <a:pt x="528" y="526"/>
                  </a:lnTo>
                  <a:lnTo>
                    <a:pt x="566" y="490"/>
                  </a:lnTo>
                  <a:lnTo>
                    <a:pt x="606" y="456"/>
                  </a:lnTo>
                  <a:lnTo>
                    <a:pt x="648" y="422"/>
                  </a:lnTo>
                  <a:lnTo>
                    <a:pt x="692" y="392"/>
                  </a:lnTo>
                  <a:lnTo>
                    <a:pt x="736" y="362"/>
                  </a:lnTo>
                  <a:lnTo>
                    <a:pt x="782" y="336"/>
                  </a:lnTo>
                  <a:lnTo>
                    <a:pt x="830" y="312"/>
                  </a:lnTo>
                  <a:lnTo>
                    <a:pt x="880" y="290"/>
                  </a:lnTo>
                  <a:lnTo>
                    <a:pt x="930" y="270"/>
                  </a:lnTo>
                  <a:lnTo>
                    <a:pt x="982" y="252"/>
                  </a:lnTo>
                  <a:lnTo>
                    <a:pt x="1034" y="236"/>
                  </a:lnTo>
                  <a:lnTo>
                    <a:pt x="1088" y="224"/>
                  </a:lnTo>
                  <a:lnTo>
                    <a:pt x="1142" y="214"/>
                  </a:lnTo>
                  <a:lnTo>
                    <a:pt x="1198" y="208"/>
                  </a:lnTo>
                  <a:lnTo>
                    <a:pt x="1254" y="204"/>
                  </a:lnTo>
                  <a:lnTo>
                    <a:pt x="1312" y="202"/>
                  </a:lnTo>
                  <a:lnTo>
                    <a:pt x="1368" y="204"/>
                  </a:lnTo>
                  <a:lnTo>
                    <a:pt x="1426" y="208"/>
                  </a:lnTo>
                  <a:lnTo>
                    <a:pt x="1480" y="214"/>
                  </a:lnTo>
                  <a:lnTo>
                    <a:pt x="1536" y="224"/>
                  </a:lnTo>
                  <a:lnTo>
                    <a:pt x="1588" y="236"/>
                  </a:lnTo>
                  <a:lnTo>
                    <a:pt x="1642" y="252"/>
                  </a:lnTo>
                  <a:lnTo>
                    <a:pt x="1694" y="270"/>
                  </a:lnTo>
                  <a:lnTo>
                    <a:pt x="1744" y="290"/>
                  </a:lnTo>
                  <a:lnTo>
                    <a:pt x="1792" y="312"/>
                  </a:lnTo>
                  <a:lnTo>
                    <a:pt x="1840" y="336"/>
                  </a:lnTo>
                  <a:lnTo>
                    <a:pt x="1886" y="362"/>
                  </a:lnTo>
                  <a:lnTo>
                    <a:pt x="1932" y="392"/>
                  </a:lnTo>
                  <a:lnTo>
                    <a:pt x="1976" y="422"/>
                  </a:lnTo>
                  <a:lnTo>
                    <a:pt x="2018" y="456"/>
                  </a:lnTo>
                  <a:lnTo>
                    <a:pt x="2058" y="490"/>
                  </a:lnTo>
                  <a:lnTo>
                    <a:pt x="2096" y="526"/>
                  </a:lnTo>
                  <a:lnTo>
                    <a:pt x="2132" y="566"/>
                  </a:lnTo>
                  <a:lnTo>
                    <a:pt x="2168" y="606"/>
                  </a:lnTo>
                  <a:lnTo>
                    <a:pt x="2200" y="648"/>
                  </a:lnTo>
                  <a:lnTo>
                    <a:pt x="2232" y="692"/>
                  </a:lnTo>
                  <a:lnTo>
                    <a:pt x="2260" y="736"/>
                  </a:lnTo>
                  <a:lnTo>
                    <a:pt x="2288" y="782"/>
                  </a:lnTo>
                  <a:lnTo>
                    <a:pt x="2312" y="830"/>
                  </a:lnTo>
                  <a:lnTo>
                    <a:pt x="2334" y="880"/>
                  </a:lnTo>
                  <a:lnTo>
                    <a:pt x="2354" y="930"/>
                  </a:lnTo>
                  <a:lnTo>
                    <a:pt x="2372" y="982"/>
                  </a:lnTo>
                  <a:lnTo>
                    <a:pt x="2386" y="1034"/>
                  </a:lnTo>
                  <a:lnTo>
                    <a:pt x="2398" y="1088"/>
                  </a:lnTo>
                  <a:lnTo>
                    <a:pt x="2408" y="1142"/>
                  </a:lnTo>
                  <a:lnTo>
                    <a:pt x="2416" y="1198"/>
                  </a:lnTo>
                  <a:lnTo>
                    <a:pt x="2420" y="1254"/>
                  </a:lnTo>
                  <a:lnTo>
                    <a:pt x="2422" y="1312"/>
                  </a:lnTo>
                  <a:lnTo>
                    <a:pt x="2420" y="1368"/>
                  </a:lnTo>
                  <a:lnTo>
                    <a:pt x="2416" y="1424"/>
                  </a:lnTo>
                  <a:lnTo>
                    <a:pt x="2408" y="1480"/>
                  </a:lnTo>
                  <a:lnTo>
                    <a:pt x="2398" y="1534"/>
                  </a:lnTo>
                  <a:lnTo>
                    <a:pt x="2386" y="1588"/>
                  </a:lnTo>
                  <a:lnTo>
                    <a:pt x="2372" y="1642"/>
                  </a:lnTo>
                  <a:lnTo>
                    <a:pt x="2354" y="1692"/>
                  </a:lnTo>
                  <a:lnTo>
                    <a:pt x="2334" y="1744"/>
                  </a:lnTo>
                  <a:lnTo>
                    <a:pt x="2312" y="1792"/>
                  </a:lnTo>
                  <a:lnTo>
                    <a:pt x="2288" y="1840"/>
                  </a:lnTo>
                  <a:lnTo>
                    <a:pt x="2260" y="1886"/>
                  </a:lnTo>
                  <a:lnTo>
                    <a:pt x="2232" y="1932"/>
                  </a:lnTo>
                  <a:lnTo>
                    <a:pt x="2200" y="1976"/>
                  </a:lnTo>
                  <a:lnTo>
                    <a:pt x="2168" y="2018"/>
                  </a:lnTo>
                  <a:lnTo>
                    <a:pt x="2132" y="2058"/>
                  </a:lnTo>
                  <a:lnTo>
                    <a:pt x="2096" y="2096"/>
                  </a:lnTo>
                  <a:lnTo>
                    <a:pt x="2058" y="2132"/>
                  </a:lnTo>
                  <a:lnTo>
                    <a:pt x="2018" y="2168"/>
                  </a:lnTo>
                  <a:lnTo>
                    <a:pt x="1976" y="2200"/>
                  </a:lnTo>
                  <a:lnTo>
                    <a:pt x="1932" y="2232"/>
                  </a:lnTo>
                  <a:lnTo>
                    <a:pt x="1886" y="2260"/>
                  </a:lnTo>
                  <a:lnTo>
                    <a:pt x="1840" y="2286"/>
                  </a:lnTo>
                  <a:lnTo>
                    <a:pt x="1792" y="2312"/>
                  </a:lnTo>
                  <a:lnTo>
                    <a:pt x="1744" y="2334"/>
                  </a:lnTo>
                  <a:lnTo>
                    <a:pt x="1694" y="2354"/>
                  </a:lnTo>
                  <a:lnTo>
                    <a:pt x="1642" y="2370"/>
                  </a:lnTo>
                  <a:lnTo>
                    <a:pt x="1588" y="2386"/>
                  </a:lnTo>
                  <a:lnTo>
                    <a:pt x="1536" y="2398"/>
                  </a:lnTo>
                  <a:lnTo>
                    <a:pt x="1480" y="2408"/>
                  </a:lnTo>
                  <a:lnTo>
                    <a:pt x="1426" y="2416"/>
                  </a:lnTo>
                  <a:lnTo>
                    <a:pt x="1368" y="2420"/>
                  </a:lnTo>
                  <a:lnTo>
                    <a:pt x="1312" y="2420"/>
                  </a:lnTo>
                  <a:close/>
                </a:path>
              </a:pathLst>
            </a:custGeom>
            <a:solidFill>
              <a:srgbClr val="cbcbcb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2" name="Group 11"/>
            <p:cNvGrpSpPr/>
            <p:nvPr/>
          </p:nvGrpSpPr>
          <p:grpSpPr>
            <a:xfrm>
              <a:off x="3666960" y="2300760"/>
              <a:ext cx="2187000" cy="2186640"/>
              <a:chOff x="3666960" y="2300760"/>
              <a:chExt cx="2187000" cy="2186640"/>
            </a:xfrm>
          </p:grpSpPr>
          <p:sp>
            <p:nvSpPr>
              <p:cNvPr id="253" name="MH_Other_4"/>
              <p:cNvSpPr/>
              <p:nvPr/>
            </p:nvSpPr>
            <p:spPr>
              <a:xfrm rot="21274800">
                <a:off x="3756960" y="2390760"/>
                <a:ext cx="2006640" cy="2006280"/>
              </a:xfrm>
              <a:prstGeom prst="ellipse">
                <a:avLst/>
              </a:prstGeom>
              <a:solidFill>
                <a:srgbClr val="ff7c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Text Box 13"/>
              <p:cNvSpPr/>
              <p:nvPr/>
            </p:nvSpPr>
            <p:spPr>
              <a:xfrm>
                <a:off x="4079880" y="2925360"/>
                <a:ext cx="1367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第三方支付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5" name="Text Box 14"/>
          <p:cNvSpPr/>
          <p:nvPr/>
        </p:nvSpPr>
        <p:spPr>
          <a:xfrm>
            <a:off x="6380280" y="2771640"/>
            <a:ext cx="101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商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7321680" y="42210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消费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16"/>
          <p:cNvGrpSpPr/>
          <p:nvPr/>
        </p:nvGrpSpPr>
        <p:grpSpPr>
          <a:xfrm>
            <a:off x="1127160" y="838080"/>
            <a:ext cx="2521080" cy="790560"/>
            <a:chOff x="1127160" y="838080"/>
            <a:chExt cx="2521080" cy="790560"/>
          </a:xfrm>
        </p:grpSpPr>
        <p:sp>
          <p:nvSpPr>
            <p:cNvPr id="258" name="圆角矩形3 297"/>
            <p:cNvSpPr/>
            <p:nvPr/>
          </p:nvSpPr>
          <p:spPr>
            <a:xfrm>
              <a:off x="1127160" y="838080"/>
              <a:ext cx="2521080" cy="790560"/>
            </a:xfrm>
            <a:prstGeom prst="roundRect">
              <a:avLst>
                <a:gd name="adj" fmla="val 16667"/>
              </a:avLst>
            </a:prstGeom>
            <a:solidFill>
              <a:srgbClr val="358cc1"/>
            </a:solidFill>
            <a:ln w="9360">
              <a:solidFill>
                <a:srgbClr val="3d3f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18"/>
            <p:cNvSpPr/>
            <p:nvPr/>
          </p:nvSpPr>
          <p:spPr>
            <a:xfrm>
              <a:off x="1342800" y="880920"/>
              <a:ext cx="216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三方共赢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27T05:51:50Z</dcterms:created>
  <dc:creator>Administrator</dc:creator>
  <dc:description/>
  <cp:keywords/>
  <dc:language>en-US</dc:language>
  <cp:lastModifiedBy>a</cp:lastModifiedBy>
  <dcterms:modified xsi:type="dcterms:W3CDTF">2016-08-02T14:06:04Z</dcterms:modified>
  <cp:revision>5</cp:revision>
  <dc:subject/>
  <dc:title>“扫扫付”APP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